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DCC68-E30E-47D0-9733-3230639A2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09FA-4085-47C2-B16A-9D0FC8ECA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3734D-C1E8-4609-ABA6-30F12141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E9591-76B8-40AF-9B66-DC0F50541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6A7DE-1B08-40B8-9FD7-816429091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58E09-E58C-4ED4-8B78-C23E24922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CD17B-DB01-4220-A811-3FFEA8E64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EF8E5-511E-4500-B623-D693E4180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381A3-91D8-4A46-988F-AFEDB7FDE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2CF20-34BD-4B04-8914-C30BB447C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1E1E5-3123-4B8C-9B37-4EE4F3F3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61B0-F91C-4F67-8C40-FB3C7052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A0CB7-6407-4BD2-A911-BA9A18599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35B07-4014-4CCD-B6FA-F55E450A6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2D008-FFE8-4CEB-BA8F-F171A29B4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92820-151B-488F-88FB-54E5D0448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65A3A-0C2F-4E7B-8E95-A1B482E65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3697-65AB-4CE5-A2D6-C220A677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EB73C-0F24-4B27-9F55-301B72AE0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2B62-DA99-4E39-82E1-0FD40DCCC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75DE-25B9-4ECA-ACE9-130385F6D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1292-1B39-4036-BCF9-DBF529B1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0173-5429-4B9A-A08F-9BF70E88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2784-97C1-4161-8A52-E64A4DE6A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859B-9D95-4E48-A5D8-C4CFE9E7C08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8067-5F41-4A87-8E57-822F7BC05C5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racelink.net/Philosophy/grace.htm" TargetMode="External"/><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d9d69"/>
                </a:solidFill>
                <a:latin typeface="Garamond"/>
              </a:rPr>
              <a:t>EL COORDINADOR DE MINISTERIO INFANTIL</a:t>
            </a:r>
            <a:endParaRPr b="1" lang="en-US" sz="4800" spc="-1" strike="noStrike">
              <a:solidFill>
                <a:srgbClr val="bd9d69"/>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uía Detallada para Organizar el Ministerio Infantil en la Iglesia Loc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3.  Jesús Ministra a los Niños</a:t>
            </a:r>
            <a:endParaRPr b="1" lang="en-US" sz="4400" spc="-1" strike="noStrike">
              <a:solidFill>
                <a:srgbClr val="bd9d69"/>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JESÚS MINISTRA A LOS NIÑO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os bendijo y oró por los niños.</a:t>
            </a:r>
            <a:r>
              <a:rPr b="0" lang="en-US" sz="2000" spc="-1" strike="noStrike">
                <a:solidFill>
                  <a:srgbClr val="000000"/>
                </a:solidFill>
                <a:latin typeface="Garamond"/>
              </a:rPr>
              <a:t> Cuando las madres trajeron sus pequeños a Jesús, los discípulos trataron de apartarlos. Sin embargo, Jesús los reprendió. Entonces puso sus manos sobre los niños, los bendijo, y oró por ellos (Mateo 19:14).</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firmó a los niños</a:t>
            </a:r>
            <a:r>
              <a:rPr b="0" lang="en-US" sz="2000" spc="-1" strike="noStrike">
                <a:solidFill>
                  <a:srgbClr val="000000"/>
                </a:solidFill>
                <a:latin typeface="Garamond"/>
              </a:rPr>
              <a:t>. Jesús declaró afirmativamente que el reino de los cielos también era de los niños. De hecho, cualquiera que no recibe el reino de los cielos como un niño, nunca entrará  en este (Mar. 10:15). Aquí él identifica una característica importante para entrar en el reino de Dios, el ser confiado y humilde como un niñ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teo 18:3.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teo 18:4:</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lub de Niños Predicadore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Entrenar a los niños que tienen el don de predicación para que predique la palabra de Dios. </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Los niños que tienen interés en predicar, se unen a este club, el cual se reúne una o dos veces por semana. Ellos reciben entrenamiento en la preparación de sermones, presentación, y otras habilidades de hablar en público. Después de varios meses de entrenamiento, los niños practican en ambientes reales como: servicio de adoración, campañas evangelísticas, iglesia de niños y otro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son entrenados como predicadores jóvenes cuando tienen el interés y el don de  la predicación. Hay también oportunidad de relacionarse y trabajar con sus compañeros dentro de una grandiosa experiencia espiritual.</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Recursos: Club de Niños Predicadores del Ministerio Infantil de la División Interamerican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Festival musical infantil</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Dar la oportunidad a los niños para que usen sus talentos musicales en las áreas de: cantos, interpretación de instrumentos, mímicas musicales, etc.</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os niños se reúnen para un día de música variada. Los programas incluyen exhibiciones y cortas demostraciones de instrumentos musicales, mímicas, trabajos corales, etc., seguidos de presentaciones musicales de los niños. Los niños de la comunidad pueden ser invitados a unirse al festival.</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Este ministerio reúne a los niños que tienen varios talentos musicales y habilidades, a la vez que usan estos regalos para la adoración y para su apreciación. Provee una gran oportunidad para que los niños aprendan buena música y para que desarrollen un ministerio misionero.</a:t>
            </a:r>
            <a:endParaRPr b="0" lang="en-US" sz="2000" spc="-1" strike="noStrike">
              <a:solidFill>
                <a:srgbClr val="000000"/>
              </a:solidFill>
              <a:latin typeface="Garamond"/>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mpamento al aire libre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ara niñ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Inspirar y guiar a los niños a apreciar el mundo natural.</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a salida al campo por un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par de días donde los niños participan en actividades de la naturaleza que los inspirarán, motivarán y animarán a apreciar a Dios como creador.</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reciben la oportunidad de explorar el mundo natural por medio de actividades agradables, juegos, presentaciones en video, y estudios de la naturaleza. Esta es una gran oportunidad para dinámicas de grupo y actividades que los unan.</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763920" indent="-76392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tros programas:</a:t>
            </a:r>
            <a:endParaRPr b="0" lang="en-US" sz="3200" spc="-1" strike="noStrike">
              <a:solidFill>
                <a:srgbClr val="000000"/>
              </a:solidFill>
              <a:latin typeface="Garamond"/>
            </a:endParaRPr>
          </a:p>
          <a:p>
            <a:pPr marL="763920" indent="-76392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eria de salud para niños; campamentos de mayordomía; campamentos bíblicos infantiles; clase bíblica semanal para los niños que no asisten a escuelas adventistas; semanas de oración; rincón infantil en el culto; grupos pequeños infantiles.</a:t>
            </a:r>
            <a:endParaRPr b="0" lang="en-US" sz="3200" spc="-1" strike="noStrike">
              <a:solidFill>
                <a:srgbClr val="000000"/>
              </a:solidFill>
              <a:latin typeface="Garamond"/>
            </a:endParaRPr>
          </a:p>
          <a:p>
            <a:pPr marL="763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CUELA BÍBLICA DE VACACIONE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Alcanzar a los niños de la comunidad y guiarlos a Jesú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La escuela bíblica de vacaciones (VBS) es el más popular de todos los programas de alcance a la comunidad. Generalmente se lleva a cabo durante el tiempo de vacaciones, con una duración de cinco a diez días. Puede comenzar en la mañana, de 9-12 o en cualquier otro momento que se acomode a las necesidades de la comunidad. El programa envuelve una sesión general, historias bíblicas, manualidades y juegos. Los adolescentes pueden ser de gran ayuda en este program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de la iglesia reciben la oportunidad de conocerse con los niños de la comunidad, y aprenden como ser amigables con los visitante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LUB AMIGOS DE LA COMUNIDAD</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Hacer seguimiento a la escuela bíblica de vacacione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Este es un programa de 1-2 horas, con historias bíblicas, cantos, manualidades y juegos, que se pueden hacer en una casa, garaje o patio. Una familia de la iglesia puede ofrecerse para dirigir el club e invitar a los niños que han asistido a la escuela bíblica de vacaciones y también a los que no asistieron.</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 un maravilloso proyecto de alcance a la familia, para niños que han asistido a la escuela bíblica de vacaciones. Invítelos al hogar escogido, para que asistan al club, y anímelos a invitar a sus amiguitos de la comunidad a unirs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upos de Juego</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Alcanzar a las madres jóvenes de la comunidad e introducirlas a Dios.</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as madres con niños pequeños son invitadas a traer a sus niños a la iglesia, para jugar, recrearse y socializar. Se conocerán con otras madres jóvenes de la iglesia, dándoles la oportunidad de formar amistades. Este programa se puede realizar dos veces a la semana, en una sala grande, donde haya espacio para juguetes y otras actividades. Provea refrigerios para las madres y los niños. Después de cierto tiempo, estas madres pueden ser invitadas a escuelas para padres o grupos pequeños.</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Ofrece a las madres jóvenes, tiempo para alejarse de su casa y conocer a otras madres en la comunidad. Hay tiempo para conversar mientras comen y compartes ideas y problem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71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 de semana de manualidad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pósito:</a:t>
            </a:r>
            <a:r>
              <a:rPr b="0" lang="en-US" sz="2400" spc="-1" strike="noStrike">
                <a:solidFill>
                  <a:srgbClr val="000000"/>
                </a:solidFill>
                <a:latin typeface="Garamond"/>
              </a:rPr>
              <a:t> Envolver a los niños en actividades agradables, aprendiendo y haciendo variedad de manualidad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scripción:</a:t>
            </a:r>
            <a:r>
              <a:rPr b="0" lang="en-US" sz="2400" spc="-1" strike="noStrike">
                <a:solidFill>
                  <a:srgbClr val="000000"/>
                </a:solidFill>
                <a:latin typeface="Garamond"/>
              </a:rPr>
              <a:t> Los niños de la comunidad son invitados a participar de una actividad llena de alegría y creatividad, haciendo manualidades. Este programa se puede llevar a cabo en día domingo en la mañana de 9-12, o en el tiempo que sea más conveniente para los padres. Conocer a los niños y a sus padres, es esencial para construir mejores relacion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racterísticas únicas:</a:t>
            </a:r>
            <a:r>
              <a:rPr b="0" lang="en-US" sz="2400" spc="-1" strike="noStrike">
                <a:solidFill>
                  <a:srgbClr val="000000"/>
                </a:solidFill>
                <a:latin typeface="Garamond"/>
              </a:rPr>
              <a:t> A los niños se les da la oportunidad de aprender nuevas manualidades y hacer nuevos amigos. Es otra oportunidad de conocer a los padres de la comunidad.</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ienvenida del Bebe</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pósito:</a:t>
            </a:r>
            <a:r>
              <a:rPr b="0" lang="en-US" sz="2400" spc="-1" strike="noStrike">
                <a:solidFill>
                  <a:srgbClr val="000000"/>
                </a:solidFill>
                <a:latin typeface="Garamond"/>
              </a:rPr>
              <a:t> Conocer nuevas madres del vecindario y apoyarlas en los primeros meses de la maternidad.</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scripción:</a:t>
            </a:r>
            <a:r>
              <a:rPr b="0" lang="en-US" sz="2400" spc="-1" strike="noStrike">
                <a:solidFill>
                  <a:srgbClr val="000000"/>
                </a:solidFill>
                <a:latin typeface="Garamond"/>
              </a:rPr>
              <a:t> Las mujeres de la iglesia se reúnen para visitar a las madres que acaban de dar a luz. Pueden ser amigas, familiares o vecinas de las mujeres de la iglesia. Traen comida, regalos para el bebe, y materiales educativos para que la nueva madre lea.</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racterísticas únicas</a:t>
            </a:r>
            <a:r>
              <a:rPr b="0" lang="en-US" sz="2400" spc="-1" strike="noStrike">
                <a:solidFill>
                  <a:srgbClr val="000000"/>
                </a:solidFill>
                <a:latin typeface="Garamond"/>
              </a:rPr>
              <a:t>: Este es un programa de excelente alcance para las nuevas madres que necesitan ánimo y apoyo en los primeros meses. Buenas amistades establecidas, eventualmente podrán guiar a más oportunidades de testifica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Ministerio de la Biblioteca móvil</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Alcanzar niños de la comunidad e introducirlos a Jesús por medio de libros e historia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cripción:</a:t>
            </a:r>
            <a:r>
              <a:rPr b="0" lang="es-ES_tradnl" sz="1800" spc="-1" strike="noStrike">
                <a:solidFill>
                  <a:srgbClr val="000000"/>
                </a:solidFill>
                <a:latin typeface="Garamond"/>
              </a:rPr>
              <a:t> Cada semana, la biblioteca móvil viaja a pueblos específicos para proveer a los niños del lugar, con libros y otros materiales de historias bíblicas. Cada niño puede pedir prestado uno o dos libros por una semana, y los devolverán para recibir nuevos libros, cuando la biblioteca regrese la próxima semana. La biblioteca móvil también ofrece un ministerio de marionetas, una historia bíblica por 45 minuto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Características únicas:</a:t>
            </a:r>
            <a:r>
              <a:rPr b="0" lang="es-ES_tradnl" sz="1800" spc="-1" strike="noStrike">
                <a:solidFill>
                  <a:srgbClr val="000000"/>
                </a:solidFill>
                <a:latin typeface="Garamond"/>
              </a:rPr>
              <a:t> Esta es una oportunidad para los niños que están en los pueblos y suburbios donde hay poco acceso a libros y materiales. Abre avenidas para conocer las necesidades de los niños, al mismo tiempo que les da la oportunidad de conocer de la Biblia y el evangelio. En muchos casos los padres también son atraídos por la biblioteca móvil.</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Recursos:</a:t>
            </a:r>
            <a:r>
              <a:rPr b="0" lang="es-ES_tradnl" sz="1800" spc="-1" strike="noStrike">
                <a:solidFill>
                  <a:srgbClr val="000000"/>
                </a:solidFill>
                <a:latin typeface="Garamond"/>
              </a:rPr>
              <a:t> Historias infantiles publicadas por la Pacific Press y Review and Heral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3.  Jesús Ministra a los Niños</a:t>
            </a:r>
            <a:endParaRPr b="1" lang="en-US" sz="4400" spc="-1" strike="noStrike">
              <a:solidFill>
                <a:srgbClr val="bd9d69"/>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Se hizo amigo de los niños</a:t>
            </a:r>
            <a:r>
              <a:rPr b="0" lang="es-ES_tradnl" sz="2000" spc="-1" strike="noStrike">
                <a:solidFill>
                  <a:srgbClr val="000000"/>
                </a:solidFill>
                <a:latin typeface="Garamond"/>
              </a:rPr>
              <a:t>. Jesús se gozó con las cosas pequeñas que ellos hacían, e incluso con las flores que ellos le llevaban. E.G. de White escribe: “Mientras los niños recolectaban las flores silvestres que abundaban alrededor de ellos, y se abarrotaban para presentarle sus ofrendas, él las recibía alegremente, les sonreía y expresaba su gozo al contemplar tantas variedades de flores”. </a:t>
            </a:r>
            <a:r>
              <a:rPr b="0" i="1" lang="es-ES_tradnl" sz="2000" spc="-1" strike="noStrike">
                <a:solidFill>
                  <a:srgbClr val="000000"/>
                </a:solidFill>
                <a:latin typeface="Garamond"/>
              </a:rPr>
              <a:t>Upward Look,</a:t>
            </a:r>
            <a:r>
              <a:rPr b="0" lang="es-ES_tradnl" sz="2000" spc="-1" strike="noStrike">
                <a:solidFill>
                  <a:srgbClr val="000000"/>
                </a:solidFill>
                <a:latin typeface="Garamond"/>
              </a:rPr>
              <a:t> p. 57.</a:t>
            </a: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articipó con los niños</a:t>
            </a:r>
            <a:r>
              <a:rPr b="0" lang="es-ES_tradnl" sz="2000" spc="-1" strike="noStrike">
                <a:solidFill>
                  <a:srgbClr val="000000"/>
                </a:solidFill>
                <a:latin typeface="Garamond"/>
              </a:rPr>
              <a:t>.  “Cristo observaba a los niños en su juegos, y a menudo expresaba su aprobación cuando ellos obtenían una inocente victoria sobre algo que ellos estaban determinados en hacer. Él cantaba a los niños en palabras dulces y de bendición. Ellos sabían que él los amaba. Él nunca les frunció el seño. Compartió las alegrías y tristezas de su niñez. A menudo recogía flores, y después de señalar sus hermosas características, se las regalaba. Él había hecho las flores y se deleitaba en señalar su belleza”. –Upward Look, p. 57</a:t>
            </a: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studios bíblicos de verano</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pósito:</a:t>
            </a:r>
            <a:r>
              <a:rPr b="0" lang="en-US" sz="1800" spc="-1" strike="noStrike">
                <a:solidFill>
                  <a:srgbClr val="000000"/>
                </a:solidFill>
                <a:latin typeface="Garamond"/>
              </a:rPr>
              <a:t> Proveer una oportunidad para que </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s niños tengan lecciones de Biblia especifica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cripción:</a:t>
            </a:r>
            <a:r>
              <a:rPr b="0" lang="en-US" sz="1800" spc="-1" strike="noStrike">
                <a:solidFill>
                  <a:srgbClr val="000000"/>
                </a:solidFill>
                <a:latin typeface="Garamond"/>
              </a:rPr>
              <a:t> El enfoque de un aprendizaje activo en lugares especiales, según los tópicos bíblicos. Las historias bíblicas vienen a la realidad a medida que se desarrollan.</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racterísticas únicas:</a:t>
            </a:r>
            <a:r>
              <a:rPr b="0" lang="en-US" sz="1800" spc="-1" strike="noStrike">
                <a:solidFill>
                  <a:srgbClr val="000000"/>
                </a:solidFill>
                <a:latin typeface="Garamond"/>
              </a:rPr>
              <a:t> Los niños experimentan las lecciones de la Biblia en situaciones de la vida real. Ellos se sientan en la playa y repasan la experiencia del Mar Rojo; dan un tour a una sala de juicios y estudian la justicia de Dios; caminan en un campo de trigo y exploran la parábola del trigo y la cizaña. Los niños crean programas con proyectos orientados al estudio bíblico, como el desarrollo de un museo de la creación, después de estudiar el Génesis. El museo presenta fósiles, huesos, y réplicas de dinosaurios.</a:t>
            </a:r>
            <a:endParaRPr b="0" lang="en-US" sz="1800" spc="-1" strike="noStrike">
              <a:solidFill>
                <a:srgbClr val="000000"/>
              </a:solidFill>
              <a:latin typeface="Garamond"/>
            </a:endParaRPr>
          </a:p>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tros programas:</a:t>
            </a:r>
            <a:r>
              <a:rPr b="0" lang="en-US" sz="1800" spc="-1" strike="noStrike">
                <a:solidFill>
                  <a:srgbClr val="000000"/>
                </a:solidFill>
                <a:latin typeface="Garamond"/>
              </a:rPr>
              <a:t> Ministerio de las marionetas; Tu historia Preferida; programas radiales.</a:t>
            </a:r>
            <a:endParaRPr b="0" lang="en-US" sz="1800" spc="-1" strike="noStrike">
              <a:solidFill>
                <a:srgbClr val="000000"/>
              </a:solidFill>
              <a:latin typeface="Garamond"/>
            </a:endParaRPr>
          </a:p>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   </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PREGUNTAS FRECUENT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1.  ¿ Por qué los aventureros no están bajo la dirección de Ministerio Infantil?</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	</a:t>
            </a:r>
            <a:r>
              <a:rPr b="0" lang="es-ES_tradnl" sz="1400" spc="-1" strike="noStrike">
                <a:solidFill>
                  <a:srgbClr val="000000"/>
                </a:solidFill>
                <a:latin typeface="Garamond"/>
              </a:rPr>
              <a:t>Los aventureros son un programa de los conquistadores para niños menores. Los conquistadores se iniciaron como un programa para jóvenes; por esto está bajo la dirección del departamento de jóvenes. Entonces, los conquistadores comenzaron a dirigir programas similares para niños menores que ellos, y en los recientes años para niños de  jardín de infantes.  Ya que el departamento de jóvenes siempre ha dirigido a los conquistadores, estos continúan bajo su jurisdicción aunque los participantes sean niño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  ¿Por qué necesitamos crear un nuevo programa o currículo de Escuela Sabática?  </a:t>
            </a:r>
            <a:br>
              <a:rPr sz="1400"/>
            </a:br>
            <a:r>
              <a:rPr b="0" lang="es-ES_tradnl" sz="1400" spc="-1" strike="noStrike">
                <a:solidFill>
                  <a:srgbClr val="000000"/>
                </a:solidFill>
                <a:latin typeface="Garamond"/>
              </a:rPr>
              <a:t>_____La decisión de asumir la creación de un nuevo currículo fue hecha por la Asociación General. El departamento  de Escuela Sabática, en consulta con todas las divisiones mundiales, ha sido la fuerza motora detrás de la escritura, edición y publicación de todos los materiales de Eslabones de la Gracia.</a:t>
            </a:r>
            <a:br>
              <a:rPr sz="1400"/>
            </a:br>
            <a:r>
              <a:rPr b="0" lang="es-ES_tradnl" sz="1400" spc="-1" strike="noStrike">
                <a:solidFill>
                  <a:srgbClr val="000000"/>
                </a:solidFill>
                <a:latin typeface="Garamond"/>
              </a:rPr>
              <a:t>_____Estudios conducidos en Norteamérica demostraron que: padres, pastores y líderes de niños, estaban pidiendo un cambio. </a:t>
            </a:r>
            <a:r>
              <a:rPr b="0" lang="es-VE" sz="1400" spc="-1" strike="noStrike">
                <a:solidFill>
                  <a:srgbClr val="000000"/>
                </a:solidFill>
                <a:latin typeface="Garamond"/>
              </a:rPr>
              <a:t>Ellos querían lecciones que fueran:</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Mas apropiadas a las edad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Que mantuvieran más la atención de los niño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Que no fueran tan abstractas </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Dichas y enseñadas en la manera que los niños las aprenden mejor—de acuerdo con su estilo de aprendizaje</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Basadas en historias bíblicas, incluso para los jóven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Enfocadas en Jesús y en su gracia</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  ¿Por qué las lecciones de Eslabones de la Gracia no enseñan las lecciones en forma cronológica? </a:t>
            </a:r>
            <a:br>
              <a:rPr sz="1400"/>
            </a:br>
            <a:r>
              <a:rPr b="0" lang="en-US" sz="1400" spc="-1" strike="noStrike">
                <a:solidFill>
                  <a:srgbClr val="000000"/>
                </a:solidFill>
                <a:latin typeface="Garamond"/>
              </a:rPr>
              <a:t>_____Imagine por un momento si ellos hubieran hecho las series de lecciones en secuencia comenzando con Génesis hasta Apocalipsis. Esto significaría que los primarios y menores, que tienen series de cuatro años, experimentarían las historias de Jesús una vez cada cuatro años. Incluso en cuna e infantes, que tienen series de dos años, la sección de la vida de Cristo, sería diminuta, si en esos dos años tuvieran que cubrir la Biblia entera en orden. La principal razón para abandonar el orden cronológico, es asegurarse que los niños tengan frecuentes oportunidades para hacerse amigos de Cristo Jesús.</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a segunda razón para dejar a un lado el orden cronológico en la enseñanza de las historias bíblicas, es el calendario. Mientras muchos adventistas optan por hacer un gran problema la celebración de Navidad o Semana Santa, estas épocas presentan “momentos de enseñanza” cuando la mayoría de la sociedad está enfocada en cosas espirituales. Optar por no seguir un orden cronológico, permite que el nacimiento de Jesús pueda ser enseñado en diciembre, y su muerte y resurrección en primavera. Esto significa que cada año, padres y maestros de Escuela Sabática pueden tomar ventaja de esas épocas, para enfocar la atención de los niños en lo que la Biblia dice acerca de todos estos importantes eventos.</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os planificadores de la Eslabones de la Gracia han seguido una secuencia y alcance general, lo que asegura que la mayor parte de las historias bíblicas (unas mas que otras) son enseñadas a través del programa. En general, cada división alterna de un trimestre a otro, entre el Antiguo y el Nuevo Testamento. Y cuando es posible entre las unidades mensuales, las historias se enseñan en secuencia.</a:t>
            </a:r>
            <a:endParaRPr b="0" lang="en-US" sz="1400" spc="-1" strike="noStrike">
              <a:solidFill>
                <a:srgbClr val="000000"/>
              </a:solidFill>
              <a:latin typeface="Garamond"/>
            </a:endParaRPr>
          </a:p>
          <a:p>
            <a:pPr marL="80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  ¿Por qué les presentamos la lección primero en la iglesia?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incentivos tendrán los niños para estudiarla ahora?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s maestros se quejaban que un solo niño en toda la clase sabía la historia bien, y los demás no la sabían del todo. Era difícil que al repasarla todos participaran. Pero cuando se enseña la lección en la iglesia primero, todos están en la misma posición; nadie la ha estudiado todavía. Mientras enseña la lección, usted puede animar a los niños a estudiar más acerca del tema en la semana y a compartir las cosas que aprenden con su familia.</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ételos a que estudien la Biblia y tengan oraciones personales de manera que puedan estar más cerca de Jesús—lo cual es el verdadero propósito del estudio de la Biblia. Manténgase preguntando cuántas veces estudian y tenga un record escrito de sus respuestas, no para premiarlos, sino para medir su progreso. Después de un tiempo, ellos comenzarán a estudiar por su propia cuenta. Anímelos a incrementar su estudio.</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_____Los niños toman nota de los adultos. Cuando los maestros entiendan los nuevos beneficios del nuevo currículo y de los nuevos métodos, ellos pueden reproducir un punto de vista positivo. </a:t>
            </a:r>
            <a:endParaRPr b="0" lang="en-US" sz="1800" spc="-1" strike="noStrike">
              <a:solidFill>
                <a:srgbClr val="000000"/>
              </a:solidFill>
              <a:latin typeface="Garamond"/>
            </a:endParaRPr>
          </a:p>
          <a:p>
            <a:pPr marL="763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5.  ¿Por qué las lecciones de Eslabones de la Gracia pierden o pasan por alto el punto principal de algunas historias bíblicas? </a:t>
            </a:r>
            <a:br>
              <a:rPr sz="2000"/>
            </a:br>
            <a:r>
              <a:rPr b="0" lang="en-US" sz="2000" spc="-1" strike="noStrike">
                <a:solidFill>
                  <a:srgbClr val="000000"/>
                </a:solidFill>
                <a:latin typeface="Garamond"/>
              </a:rPr>
              <a:t>_____Una de las mejores maneras de mantener la Biblia fresca y viva a través de un estudio de toda la vida, es permitir al Espíritu Santo que revele aspectos de pasajes conocidos de los que nunca habíamos pensado. El Currículo de Eslabones de la Gracia desarrolla cuatro de los conceptos más importantes de la vida cristiana que son usados como lentes para el estudio bíblico—gracia, adoración, comunidad, y servicio. Cada lección se enfrenta a través de algunos de estos puntos de vista:</a:t>
            </a:r>
            <a:endParaRPr b="0" lang="en-US" sz="2000" spc="-1" strike="noStrike">
              <a:solidFill>
                <a:srgbClr val="000000"/>
              </a:solidFill>
              <a:latin typeface="Garamond"/>
            </a:endParaRPr>
          </a:p>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Cómo puede esta historia mostrarme el amor Salvador de Dios hacia mí? </a:t>
            </a:r>
            <a:r>
              <a:rPr b="1" i="1" lang="en-US" sz="2000" spc="-1" strike="noStrike" u="sng">
                <a:solidFill>
                  <a:srgbClr val="000000"/>
                </a:solidFill>
                <a:uFillTx/>
                <a:latin typeface="Garamond"/>
              </a:rPr>
              <a:t>(Gracia)</a:t>
            </a:r>
            <a:r>
              <a:rPr b="0" lang="en-US" sz="2000" spc="-1" strike="noStrike" u="sng">
                <a:solidFill>
                  <a:srgbClr val="ff9900"/>
                </a:solidFill>
                <a:uFillTx/>
                <a:latin typeface="Garamond"/>
                <a:hlinkClick r:id="rId2"/>
              </a:rPr>
              <a:t> </a:t>
            </a:r>
            <a:br>
              <a:rPr sz="2000"/>
            </a:br>
            <a:r>
              <a:rPr b="0" lang="en-US" sz="2000" spc="-1" strike="noStrike">
                <a:solidFill>
                  <a:srgbClr val="000000"/>
                </a:solidFill>
                <a:latin typeface="Garamond"/>
              </a:rPr>
              <a:t>** ¿Qué puede enseñarme esta historia acerca de mi respuesta hacia Dios? </a:t>
            </a:r>
            <a:r>
              <a:rPr b="1" i="1" lang="en-US" sz="2000" spc="-1" strike="noStrike" u="sng">
                <a:solidFill>
                  <a:srgbClr val="000000"/>
                </a:solidFill>
                <a:uFillTx/>
                <a:latin typeface="Garamond"/>
              </a:rPr>
              <a:t>(Adoración)</a:t>
            </a:r>
            <a:r>
              <a:rPr b="0" i="1" lang="en-US" sz="2000" spc="-1" strike="noStrike">
                <a:solidFill>
                  <a:srgbClr val="000000"/>
                </a:solidFill>
                <a:latin typeface="Garamond"/>
              </a:rPr>
              <a:t> </a:t>
            </a:r>
            <a:br>
              <a:rPr sz="2000"/>
            </a:br>
            <a:r>
              <a:rPr b="0" lang="en-US" sz="2000" spc="-1" strike="noStrike">
                <a:solidFill>
                  <a:srgbClr val="000000"/>
                </a:solidFill>
                <a:latin typeface="Garamond"/>
              </a:rPr>
              <a:t>** ¿Qué me enseña este pasaje sobre  mi relación con otros? </a:t>
            </a:r>
            <a:r>
              <a:rPr b="1" i="1" lang="en-US" sz="2000" spc="-1" strike="noStrike" u="sng">
                <a:solidFill>
                  <a:srgbClr val="000000"/>
                </a:solidFill>
                <a:uFillTx/>
                <a:latin typeface="Garamond"/>
              </a:rPr>
              <a:t>(Comunidad)</a:t>
            </a:r>
            <a:br>
              <a:rPr sz="2000"/>
            </a:br>
            <a:r>
              <a:rPr b="0" lang="en-US" sz="2000" spc="-1" strike="noStrike">
                <a:solidFill>
                  <a:srgbClr val="000000"/>
                </a:solidFill>
                <a:latin typeface="Garamond"/>
              </a:rPr>
              <a:t>** ¿Qué me enseña esta historia acerca de alcanzar a otros? </a:t>
            </a:r>
            <a:r>
              <a:rPr b="1" i="1" lang="en-US" sz="2000" spc="-1" strike="noStrike" u="sng">
                <a:solidFill>
                  <a:srgbClr val="000000"/>
                </a:solidFill>
                <a:uFillTx/>
                <a:latin typeface="Garamond"/>
              </a:rPr>
              <a:t>(Servicio)</a:t>
            </a:r>
            <a:r>
              <a:rPr b="1" lang="en-US" sz="2000" spc="-1" strike="noStrike" u="sng">
                <a:solidFill>
                  <a:srgbClr val="000000"/>
                </a:solidFill>
                <a:uFillTx/>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80120" indent="-7801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na lección de los Eslabones de la Gracia puede tener un enfoque completamente diferente al punto que usted puede estar esperando. Esto no significa que el mensaje de los Eslabones de la Gracia no sea válido. Mientras un niño se de cuenta o descubra que la misma historia puede presentar diferentes puntos, cuando se estudia desde diferentes énfasis, aprenderá a apreciar la amplitud de la palabra de Dios y las posibilidades infinitas que contiene para aprender.</a:t>
            </a:r>
            <a:endParaRPr b="0" lang="en-US" sz="2000" spc="-1" strike="noStrike">
              <a:solidFill>
                <a:srgbClr val="000000"/>
              </a:solidFill>
              <a:latin typeface="Garamond"/>
            </a:endParaRPr>
          </a:p>
          <a:p>
            <a:pPr marL="780120" indent="-7801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da lección de los eslabones de la gracia se enfoca sólo en un mensaje o punto de los MUCHOS que es posible tener en cualquier historia bíblica. Las investigaciones nos han demostrado que la forma más efectiva de enseñar a los niños—o aun adultos—es enfocar </a:t>
            </a:r>
            <a:r>
              <a:rPr b="1" lang="en-US" sz="2000" spc="-1" strike="noStrike">
                <a:solidFill>
                  <a:srgbClr val="000000"/>
                </a:solidFill>
                <a:latin typeface="Garamond"/>
              </a:rPr>
              <a:t>un </a:t>
            </a:r>
            <a:r>
              <a:rPr b="0" lang="en-US" sz="2000" spc="-1" strike="noStrike">
                <a:solidFill>
                  <a:srgbClr val="000000"/>
                </a:solidFill>
                <a:latin typeface="Garamond"/>
              </a:rPr>
              <a:t>punto en la lección, explorar concienzudamente sus aplicaciones para la v ida diaria, y repetir ese punto (mensaje) en varios momentos durante la clase. Después de todo un mensaje puede ser experimentado de varias maner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788400" indent="-7884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sto también le da al maestro las mejores estrategias posibles para organizarse: ¿Cómo puede esta actividad contribuir al punto principal de la lección? En una lección de los Eslabones de la Gracia, el tiempo total de la lección, está enfocado sobre ese específico mensaje. </a:t>
            </a:r>
            <a:endParaRPr b="0" lang="en-US" sz="3200" spc="-1" strike="noStrike">
              <a:solidFill>
                <a:srgbClr val="000000"/>
              </a:solidFill>
              <a:latin typeface="Garamond"/>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6.  ¿Por qué los nuevos materiales no utilizan el estilo de arte al que estábamos acostumbrados en las lecciones de Escuela Sabática?  </a:t>
            </a:r>
            <a:br>
              <a:rPr sz="2000"/>
            </a:br>
            <a:r>
              <a:rPr b="0" lang="en-US" sz="2000" spc="-1" strike="noStrike">
                <a:solidFill>
                  <a:srgbClr val="000000"/>
                </a:solidFill>
                <a:latin typeface="Garamond"/>
              </a:rPr>
              <a:t>_____   El arte Adventista del Séptimo Día tradicional, no es reconocido por ser culturalmente inclusivo. Estas lecciones se usan en el mundo entero, y no es apropiado utilizar sólo niños blancos. El estilo irrealista del arte permite que la raza y la etnia sean ambiguos. Al mirar a algunos de los personajes, no se puede decir: “Esta persona es africana” o “Esta persona es europe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tro asunto conectado con el arte, es la sensibilidad hacia los tiempos. Muchos de los cuadros con los que crecimos, aunque siguen siendo hermosos, se ven demasiado viejos para la generación actual. Vestidos, estilos de cabello, etc., han cambiado desde el tiempo en que fueron pintados. Un estilo irrealista es menos propenso al detalle del estilo.</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47720" indent="-7477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erentes artistas han sido seleccionados para crear ilustraciones en cada nivel del currículo, de tal manera que apelen a los niños. El arte amigable a los niños, es relativamente simple, enfatiza colores primarios y pone menos atención al detalle y al ambiente. Se ha hecho un esfuerzo consciente para evitar la apariencia de cualquier personaje directamente identificable en los medios de comunicació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731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31520" indent="-7315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7.  ¿Es responsable el Coordinador de Ministerio Infantil por entrenamiento de los maestros en el curso de Eslabones de la Gracia? </a:t>
            </a:r>
            <a:endParaRPr b="0" lang="en-US" sz="2800" spc="-1" strike="noStrike">
              <a:solidFill>
                <a:srgbClr val="000000"/>
              </a:solidFill>
              <a:latin typeface="Garamond"/>
            </a:endParaRPr>
          </a:p>
          <a:p>
            <a:pPr marL="731520" indent="-7315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0" lang="en-US" sz="2800" spc="-1" strike="noStrike">
                <a:solidFill>
                  <a:srgbClr val="000000"/>
                </a:solidFill>
                <a:latin typeface="Garamond"/>
              </a:rPr>
              <a:t>El coordinador de Ministerio Infantil trabaja junto con los líderes de la Escuela Sabática para proveer el entrenamiento de los maestros en el uso de los Eslabones de la Gracia. El coordinador puede invitar al director de Ministerio Infantil de la Asociación para que realice el entrenamiento en la iglesia loc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NSEJOS DE ELENA G. DE WHITE PARA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INISTRAR A LOS NIÑO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t>
            </a:r>
            <a:r>
              <a:rPr b="0" lang="en-US" sz="2000" spc="-1" strike="noStrike">
                <a:solidFill>
                  <a:srgbClr val="000000"/>
                </a:solidFill>
                <a:latin typeface="Garamond"/>
              </a:rPr>
              <a:t>No se puede exagerar la importancia de la educación precoz de los niños.  Las lecciones que aprende el niño en los primeros siete años de vida tienen más que ver con la formación de su carácter que todo lo que aprende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 los años futuros”. –</a:t>
            </a:r>
            <a:r>
              <a:rPr b="0" i="1" lang="en-US" sz="2000" spc="-1" strike="noStrike">
                <a:solidFill>
                  <a:srgbClr val="000000"/>
                </a:solidFill>
                <a:latin typeface="Garamond"/>
              </a:rPr>
              <a:t>Conducción del niño,</a:t>
            </a:r>
            <a:r>
              <a:rPr b="0" lang="en-US" sz="2000" spc="-1" strike="noStrike">
                <a:solidFill>
                  <a:srgbClr val="000000"/>
                </a:solidFill>
                <a:latin typeface="Garamond"/>
              </a:rPr>
              <a:t> p. 193-inglé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Los niños son muy susceptibles a las enseñanzas del Evangelio; sus corazones están abiertos a la influencia divina Y son tenaces para retener las lecciones recibidas.  Los niñitos pueden ser cristianos y tener una experiencia espiritual de acuerdo con su edad”. –</a:t>
            </a:r>
            <a:r>
              <a:rPr b="0" i="1" lang="en-US" sz="2000" spc="-1" strike="noStrike">
                <a:solidFill>
                  <a:srgbClr val="000000"/>
                </a:solidFill>
                <a:latin typeface="Garamond"/>
              </a:rPr>
              <a:t>El Deseado de todas las gentes</a:t>
            </a:r>
            <a:r>
              <a:rPr b="0" lang="en-US" sz="2000" spc="-1" strike="noStrike">
                <a:solidFill>
                  <a:srgbClr val="000000"/>
                </a:solidFill>
                <a:latin typeface="Garamond"/>
              </a:rPr>
              <a:t>, p. 515-inglé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Jesús, el supremo amante de los niños</a:t>
            </a:r>
            <a:endParaRPr b="1" lang="en-US" sz="4000" spc="-1" strike="noStrike">
              <a:solidFill>
                <a:srgbClr val="bd9d69"/>
              </a:solidFill>
              <a:latin typeface="Garamond"/>
            </a:endParaRPr>
          </a:p>
        </p:txBody>
      </p:sp>
      <p:sp>
        <p:nvSpPr>
          <p:cNvPr id="3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ctr">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a:t>
            </a:r>
            <a:r>
              <a:rPr b="1" lang="es-ES_tradnl" sz="3200" spc="-1" strike="noStrike">
                <a:solidFill>
                  <a:srgbClr val="000000"/>
                </a:solidFill>
                <a:latin typeface="Garamond"/>
              </a:rPr>
              <a:t>El que haga tropezar a uno de estos pequeños</a:t>
            </a:r>
            <a:r>
              <a:rPr b="0" lang="es-ES_tradnl" sz="3200" spc="-1" strike="noStrike">
                <a:solidFill>
                  <a:srgbClr val="000000"/>
                </a:solidFill>
                <a:latin typeface="Garamond"/>
              </a:rPr>
              <a:t> </a:t>
            </a:r>
            <a:r>
              <a:rPr b="1" lang="es-ES_tradnl" sz="3200" spc="-1" strike="noStrike">
                <a:solidFill>
                  <a:srgbClr val="000000"/>
                </a:solidFill>
                <a:latin typeface="Garamond"/>
              </a:rPr>
              <a:t>que creen en mi, mejor sería que le colgaran al cuello una piedra de molino, y lo hundieran en lo profundo del mar”.</a:t>
            </a:r>
            <a:r>
              <a:rPr b="0" lang="es-ES_tradnl" sz="3200" spc="-1" strike="noStrike">
                <a:solidFill>
                  <a:srgbClr val="000000"/>
                </a:solidFill>
                <a:latin typeface="Garamond"/>
              </a:rPr>
              <a:t> </a:t>
            </a:r>
            <a:endParaRPr b="0" lang="en-US" sz="3200" spc="-1" strike="noStrike">
              <a:solidFill>
                <a:srgbClr val="000000"/>
              </a:solidFill>
              <a:latin typeface="Garamond"/>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Mateo 18:6</a:t>
            </a:r>
            <a:endParaRPr b="0" lang="en-US" sz="3200" spc="-1" strike="noStrike">
              <a:solidFill>
                <a:srgbClr val="000000"/>
              </a:solidFill>
              <a:latin typeface="Garamond"/>
            </a:endParaRPr>
          </a:p>
          <a:p>
            <a:pPr marL="325800" indent="-325800" algn="ctr">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a:t>
            </a:r>
            <a:r>
              <a:rPr b="1" lang="es-ES_tradnl" sz="3200" spc="-1" strike="noStrike">
                <a:solidFill>
                  <a:srgbClr val="000000"/>
                </a:solidFill>
                <a:latin typeface="Garamond"/>
              </a:rPr>
              <a:t>Y el que recibe a un  niño como éste en mi Nombre, me recibe a mi”.</a:t>
            </a:r>
            <a:r>
              <a:rPr b="0" lang="es-ES_tradnl" sz="3200" spc="-1" strike="noStrike">
                <a:solidFill>
                  <a:srgbClr val="000000"/>
                </a:solidFill>
                <a:latin typeface="Garamond"/>
              </a:rPr>
              <a:t>  Mateo 18:5</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2000" spc="-1" strike="noStrike">
                <a:solidFill>
                  <a:srgbClr val="000000"/>
                </a:solidFill>
                <a:latin typeface="Garamond"/>
              </a:rPr>
              <a:t>"Los niños son muy susceptibles a las enseñanzas del Evangelio; sus corazones están abiertos a la influencia divina Y son tenaces para retener las lecciones recibidas.  Los niñitos pueden ser cristianos y tener una experiencia espiritual de acuerdo con su edad”. –</a:t>
            </a:r>
            <a:r>
              <a:rPr b="0" i="1" lang="en-US" sz="2000" spc="-1" strike="noStrike">
                <a:solidFill>
                  <a:srgbClr val="000000"/>
                </a:solidFill>
                <a:latin typeface="Garamond"/>
              </a:rPr>
              <a:t>El Deseado de todas las gentes</a:t>
            </a:r>
            <a:r>
              <a:rPr b="0" lang="en-US" sz="2000" spc="-1" strike="noStrike">
                <a:solidFill>
                  <a:srgbClr val="000000"/>
                </a:solidFill>
                <a:latin typeface="Garamond"/>
              </a:rPr>
              <a:t>, p. 515-inglé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t>
            </a:r>
            <a:r>
              <a:rPr b="0" lang="en-US" sz="2000" spc="-1" strike="noStrike">
                <a:solidFill>
                  <a:srgbClr val="000000"/>
                </a:solidFill>
                <a:latin typeface="Garamond"/>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 –</a:t>
            </a:r>
            <a:r>
              <a:rPr b="0" i="1" lang="en-US" sz="2000" spc="-1" strike="noStrike">
                <a:solidFill>
                  <a:srgbClr val="000000"/>
                </a:solidFill>
                <a:latin typeface="Garamond"/>
              </a:rPr>
              <a:t>Testimonios Vol. 1</a:t>
            </a:r>
            <a:r>
              <a:rPr b="0" lang="en-US" sz="2000" spc="-1" strike="noStrike">
                <a:solidFill>
                  <a:srgbClr val="000000"/>
                </a:solidFill>
                <a:latin typeface="Garamond"/>
              </a:rPr>
              <a:t>, p.400-inglés.</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15360" indent="-3153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t>
            </a:r>
            <a:r>
              <a:rPr b="0" lang="en-US" sz="2400" spc="-1" strike="noStrike">
                <a:solidFill>
                  <a:srgbClr val="000000"/>
                </a:solidFill>
                <a:latin typeface="Garamond"/>
              </a:rPr>
              <a:t>En estos niños puestos en relación con él, Jesús veía a futuros hombres y mujeres que heredarían su gracia y serían súbditos de su reino, y algunos de ellos llegarían a ser mártires por su causa.  Sabía que le escucharían y le aceptarían como su Redentor con más facilidad que los adultos, muchos de los cuales eran sabios según el mundo y duros de corazón.  En su enseñanza, descendía a su nivel.  Él, la majestad del cielo, no desdeñaba contestar sus preguntas, y simplificar sus importantes lecciones para ponerlas al alcance de su comprensión  infantil”. –</a:t>
            </a:r>
            <a:r>
              <a:rPr b="0" i="1" lang="en-US" sz="2400" spc="-1" strike="noStrike">
                <a:solidFill>
                  <a:srgbClr val="000000"/>
                </a:solidFill>
                <a:latin typeface="Garamond"/>
              </a:rPr>
              <a:t>El Evangelismo</a:t>
            </a:r>
            <a:r>
              <a:rPr b="0" lang="en-US" sz="2400" spc="-1" strike="noStrike">
                <a:solidFill>
                  <a:srgbClr val="000000"/>
                </a:solidFill>
                <a:latin typeface="Garamond"/>
              </a:rPr>
              <a:t>, p. 579- inglés.</a:t>
            </a:r>
            <a:endParaRPr b="0" lang="en-US" sz="2400" spc="-1" strike="noStrike">
              <a:solidFill>
                <a:srgbClr val="000000"/>
              </a:solidFill>
              <a:latin typeface="Garamond"/>
            </a:endParaRPr>
          </a:p>
          <a:p>
            <a:pPr marL="315360" indent="-3153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5280" indent="-30528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t>
            </a:r>
            <a:r>
              <a:rPr b="0" lang="en-US" sz="2800" spc="-1" strike="noStrike">
                <a:solidFill>
                  <a:srgbClr val="000000"/>
                </a:solidFill>
                <a:latin typeface="Garamond"/>
              </a:rPr>
              <a:t>En las escenas finales de la historia de esta tierra, muchos de estos niños y jóvenes asombrarán a la gente por su testimonio de la verdad, que darán con sencillez, pero con espíritu y poder.  Se les habrá enseñado el temor de Jehová y su corazón habrá sido enternecido por un estudio cuidadoso de la Biblia, acompañado de oración.  En el cercano futuro, muchos niños serán dotados del Espíritu de Dios, y harán en la proclamación de la verdad al mundo, una obra que en aquel entonces no podrán hacer los miembros adultos”. –</a:t>
            </a:r>
            <a:r>
              <a:rPr b="0" i="1" lang="en-US" sz="2800" spc="-1" strike="noStrike">
                <a:solidFill>
                  <a:srgbClr val="000000"/>
                </a:solidFill>
                <a:latin typeface="Garamond"/>
              </a:rPr>
              <a:t>Consejos para maestros</a:t>
            </a:r>
            <a:r>
              <a:rPr b="0" lang="en-US" sz="2800" spc="-1" strike="noStrike">
                <a:solidFill>
                  <a:srgbClr val="000000"/>
                </a:solidFill>
                <a:latin typeface="Garamond"/>
              </a:rPr>
              <a:t>, p. 166,167-inglés.</a:t>
            </a:r>
            <a:endParaRPr b="0" lang="en-US" sz="2800" spc="-1" strike="noStrike">
              <a:solidFill>
                <a:srgbClr val="000000"/>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Aquellos que aman a Dios deberían sentirse profundamente interesados en los niños y en los jóvenes. Hacia ellos Dios puede revelar su verdad y salvación. Jesús llama a los pequeños que creen en él: las ovejas de su rebaño. Él tiene un amor y un interés especial por los niños…La ofrenda más preciosa que los niños pueden dar a Jesús, es la frescura de su niñez”. —</a:t>
            </a:r>
            <a:r>
              <a:rPr b="0" i="1" lang="en-US" sz="2400" spc="-1" strike="noStrike">
                <a:solidFill>
                  <a:srgbClr val="000000"/>
                </a:solidFill>
                <a:latin typeface="Garamond"/>
              </a:rPr>
              <a:t>Reflejemos a Cristo</a:t>
            </a:r>
            <a:r>
              <a:rPr b="0" lang="en-US" sz="2400" spc="-1" strike="noStrike">
                <a:solidFill>
                  <a:srgbClr val="000000"/>
                </a:solidFill>
                <a:latin typeface="Garamond"/>
              </a:rPr>
              <a:t>, p. 373-inglé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Cuando Jesús le dijo a los discípulos que no impidieran que los niños vinieran a él, estaba hablando a sus seguidores de todas las edades, --a los oficiales de la iglesia, a ministros, a ayudantes, y a todos los cristianos. Jesús invita a los niños a acercarse, y nos recomienda dejarlos venir; como si dijera: vendrán si no se lo impiden”. –</a:t>
            </a:r>
            <a:r>
              <a:rPr b="0" i="1" lang="en-US" sz="2400" spc="-1" strike="noStrike">
                <a:solidFill>
                  <a:srgbClr val="000000"/>
                </a:solidFill>
                <a:latin typeface="Garamond"/>
              </a:rPr>
              <a:t>El Deseado de todas las gentes</a:t>
            </a:r>
            <a:r>
              <a:rPr b="0" lang="en-US" sz="2400" spc="-1" strike="noStrike">
                <a:solidFill>
                  <a:srgbClr val="000000"/>
                </a:solidFill>
                <a:latin typeface="Garamond"/>
              </a:rPr>
              <a:t>, p. 517-inglés.</a:t>
            </a:r>
            <a:endParaRPr b="0" lang="en-US" sz="2400" spc="-1" strike="noStrike">
              <a:solidFill>
                <a:srgbClr val="000000"/>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L COORDINADOR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El Manual de la Iglesia</a:t>
            </a:r>
            <a:r>
              <a:rPr b="0" lang="en-US" sz="2400" spc="-1" strike="noStrike">
                <a:solidFill>
                  <a:srgbClr val="000000"/>
                </a:solidFill>
                <a:latin typeface="Garamond"/>
              </a:rPr>
              <a:t> destaca las responsabilidades del  Coordinador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rigir la junta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mplementar el programa de Eslabones de la gracia y proveer entrenamiento para líderes y maestros en el uso de dicho programa.</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anificar e implementar un calendario anual de programas para niños, que los atraiga a Cristo y provea para su participación en todas las actividades de la iglesia.</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sarrollar un presupuesto para implementar toda la programación y las actividades de los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marL="339480" indent="-3394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r como representante de los intereses y necesidades de los niños a: </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 junta de iglesia –manteniendo a los miembros de la junta informados de las preocupaciones y éxitos, reportando los resultados del diagnóstico de necesidades de los niños y animando la inversión de fondos de los programas infantiles.</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pastor—debe trabajar junto con el pastor, asegurarse de que los diversos aspectos de la vida de la iglesia y la adoración sean más amigables hacia los niños y tengan mas significado para ellos.</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íderes de actividades infantiles—al apoyarlos y animarl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omar pasos responsables para mantener una moral alta y una cualidad ética en medio de los líderes de los niños, al momento de escoger a los líderes y maestro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tener vías de comunicación abiertas entre los padres y los líderes de actividades infantiles, informando sobre: talleres, convenciones, campestres y otras herramientas para animar su crecimiento y ayudarles a entender mejor a los niño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uscar oportunidades para pasar tiempo con los niños de manera que pueda mantenerse en contacto con sus pensamientos y necesidade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rabajar con el pastor en todos los eventos que involucren niños, tales como: </a:t>
            </a:r>
            <a:endParaRPr b="0" lang="en-US" sz="20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dicacione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utism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istoria infantil durante el servicio</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áconos infantil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é es el Ministerio Infantil?</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El Ministerio Infantil tiene como OBJETIVO desarrollar la fe de los niños desde que nacen hasta los 14 años. Mientras que la Escuela Sabática provee educación religiosa a los niños una vez a la semana, el Ministerio Infantil se esfuerza en proveer múltiples ministerios en otros momentos, los cuales guiarán a los niños a Jesús y los disciplinarán en su diario caminar con él. </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Organiza programas y actividades a través del año que alimentan la espiritualidad de los niños, los preparan para el liderazgo, y los ayudan a alcanzar a otros en su comunidad. </a:t>
            </a:r>
            <a:endParaRPr b="0" lang="en-US" sz="2400" spc="-1" strike="noStrike">
              <a:solidFill>
                <a:srgbClr val="000000"/>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	</a:t>
            </a:r>
            <a:r>
              <a:rPr b="0" lang="en-US" sz="2000" spc="-1" strike="noStrike">
                <a:solidFill>
                  <a:srgbClr val="000000"/>
                </a:solidFill>
                <a:latin typeface="Garamond"/>
              </a:rPr>
              <a:t>Es importante que el Coordinador de Ministerio Infantil sepa lo que está haciendo. No se precipite demasiado en lanzar programas y actividades de inmediat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REANDO UNA VISION</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El Coordinador de Ministerio Infantil debe tener una visión de lo que el ministerio puede lograr con el poder de Dios. La visión es crucial para un ministerio efectivo. Esto le permite mirar hacia delante y planificar con un propósito. Pero nunca es una tarea fác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da ministerio debería enfocarse en la gran comisión. Somos llamados a cumplir: “Por tanto, vayan y hagan discípulos de todas las naciones, bautizándolos en el nombre del Padre y del Hijo y del Espíritu Santo, enseñándoles a obedecer todo lo que les he mandado. Y les aseguro que estaré con ustedes siempre, hasta el fin del mundo” (Mateo 28:19,20, NVI).</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Tal visión tendrá los cuatro componentes del mandado divino:</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Vayan”</a:t>
            </a:r>
            <a:r>
              <a:rPr b="0" lang="en-US" sz="2400" spc="-1" strike="noStrike">
                <a:solidFill>
                  <a:srgbClr val="000000"/>
                </a:solidFill>
                <a:latin typeface="Garamond"/>
              </a:rPr>
              <a:t>: ¿Cómo estará usted enterado e involucrado en el mundo de los niños de hoy? ¿Cómo irá hacia ellos? ¿Cuál es su plan de evangelismo?</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Hagan discípulos”</a:t>
            </a:r>
            <a:r>
              <a:rPr b="0" lang="en-US" sz="2400" spc="-1" strike="noStrike">
                <a:solidFill>
                  <a:srgbClr val="000000"/>
                </a:solidFill>
                <a:latin typeface="Garamond"/>
              </a:rPr>
              <a:t>: ¿Cómo atraerá a los niños y los hará interesarse en Jesú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Bautizándolos”</a:t>
            </a:r>
            <a:r>
              <a:rPr b="0" lang="en-US" sz="2400" spc="-1" strike="noStrike">
                <a:solidFill>
                  <a:srgbClr val="000000"/>
                </a:solidFill>
                <a:latin typeface="Garamond"/>
              </a:rPr>
              <a:t>: ¿Cómo guiará a los niños para que hagan un compromiso personal con Jesú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Enseñándoles”</a:t>
            </a:r>
            <a:r>
              <a:rPr b="0" lang="en-US" sz="2400" spc="-1" strike="noStrike">
                <a:solidFill>
                  <a:srgbClr val="000000"/>
                </a:solidFill>
                <a:latin typeface="Garamond"/>
              </a:rPr>
              <a:t>: ¿Cómo le enseñará a los niños de hoy, de una manera que se interesen y motiven para aprender más por su propia cuenta? ¿Cómo los ayudará a crecer en su fe?</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a:t>
            </a:r>
            <a:r>
              <a:rPr b="1" i="1" lang="en-US" sz="2400" spc="-1" strike="noStrike">
                <a:solidFill>
                  <a:srgbClr val="000000"/>
                </a:solidFill>
                <a:latin typeface="Garamond"/>
              </a:rPr>
              <a:t>Obedecer</a:t>
            </a:r>
            <a:r>
              <a:rPr b="0" i="1" lang="en-US" sz="2400" spc="-1" strike="noStrike">
                <a:solidFill>
                  <a:srgbClr val="000000"/>
                </a:solidFill>
                <a:latin typeface="Garamond"/>
              </a:rPr>
              <a:t>”</a:t>
            </a:r>
            <a:r>
              <a:rPr b="0" lang="en-US" sz="2400" spc="-1" strike="noStrike">
                <a:solidFill>
                  <a:srgbClr val="000000"/>
                </a:solidFill>
                <a:latin typeface="Garamond"/>
              </a:rPr>
              <a:t>: ¿Cómo los hará discípulos y los guiará a obedecer  y servir? ¿Cómo se inspirarán para servir a otr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orge Barna, en </a:t>
            </a:r>
            <a:r>
              <a:rPr b="0" i="1" lang="es-ES_tradnl" sz="2400" spc="-1" strike="noStrike">
                <a:solidFill>
                  <a:srgbClr val="000000"/>
                </a:solidFill>
                <a:latin typeface="Garamond"/>
              </a:rPr>
              <a:t>The Power of Vision</a:t>
            </a:r>
            <a:r>
              <a:rPr b="0" lang="es-ES_tradnl" sz="2400" spc="-1" strike="noStrike">
                <a:solidFill>
                  <a:srgbClr val="000000"/>
                </a:solidFill>
                <a:latin typeface="Garamond"/>
              </a:rPr>
              <a:t> (El poder de la visión), describe las trampas mortales que pueden atrapar a los que tienen visiones en el ministerio, de las cuales cinco son: tradición, temor, cansancio, complacencia, y  pensamiento a corto plazo</a:t>
            </a:r>
            <a:r>
              <a:rPr b="0" lang="es-ES_tradnl" sz="2400" spc="-1" strike="noStrike" u="sng">
                <a:solidFill>
                  <a:srgbClr val="ff9900"/>
                </a:solidFill>
                <a:uFillTx/>
                <a:latin typeface="Garamond"/>
                <a:hlinkClick r:id="rId2" action="ppaction://hlinksldjump"/>
              </a:rPr>
              <a:t>[3]</a:t>
            </a:r>
            <a:r>
              <a:rPr b="0" lang="es-ES_tradnl" sz="2400" spc="-1" strike="noStrike">
                <a:solidFill>
                  <a:srgbClr val="000000"/>
                </a:solidFill>
                <a:latin typeface="Garamond"/>
              </a:rPr>
              <a:t>.  La tradición puede atraparnos (“¡Nosotros siempre lo hacemos de esta manera!”), y también el temor (“¿Cómo puedo realizar este programa si solo unos pocos padres nos apoyan?”). La complacencia puede llevar a la falta de acción (“Realmente no me importa, mis hijos ya están grandes”), y fatiga (“¡Me rindo! He estado aquí por diez años y nada a cambiado”). Y finalmente, pensamiento a corto plazo (“¡Hagamos algo ahora; no tenemos tiempo de preocuparnos acerca del próximo año!”) puede acabar con un ministerio efectivo.</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NSIDERE LAS NECESIDADES</a:t>
            </a:r>
            <a:endParaRPr b="0" lang="en-US" sz="2400" spc="-1" strike="noStrike">
              <a:solidFill>
                <a:srgbClr val="000000"/>
              </a:solidFill>
              <a:latin typeface="Garamond"/>
            </a:endParaRPr>
          </a:p>
          <a:p>
            <a:pPr marL="339480" indent="-3394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Parte del desarrollo de una visión para el Ministerio Infantil, es considerar las necesidades de los niños en su iglesia, para que usted pueda ajustar sus programas y satisfacer estas necesidades. Ellos no son adultos en miniatura. Todos ellos necesitan amor y cuidado. Ellos necesitan estar libres para jugar, explorar, crear y expresarse. Necesitan ser instruidos con los valores correctos y ser retados a aprender y dominar nuevas habilidades y conocimientos. Cuando ellos están bajo nuestro cuidado, necesitamos ofrecerles un ambiente seguro donde los niños se sientan bienvenidos, valorados y aceptad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ARROLLE RELACIONE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Para el Coordinador de Ministerio Infantil es esencial conocer a los miembros de la iglesia, de manera que ellos puedan captar su visión y puedan así apoyar sus programas. Sus conocidos, son a menudo las personas que hacen que su programa vuele.</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ble con el pastor acerca de su misión para la iglesia y su visión para el Ministerio Infant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stablezca quienes son las personas claves y comparta sus preocupaciones con ellos. Escuche sus consejo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ozca a los miembros de la junta y aprenda como se logran las cosas en su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ozca a los padres que tienen niños en las divisiones de la Escuela Sabát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Organizando la Comisión de Ministerio Infantil</a:t>
            </a:r>
            <a:endParaRPr b="1" lang="en-US" sz="4000" spc="-1" strike="noStrike">
              <a:solidFill>
                <a:srgbClr val="bd9d69"/>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GANICE LA COMISIÓN DE MINISTERIO INFANTIL</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IEMBROS DE LA COMISIÓN</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leccione nombres para la comisión de Ministerio Infantil. Esta comisión estará conformada con:</a:t>
            </a:r>
            <a:endParaRPr b="0" lang="en-US" sz="24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Coordinador de Ministerio Infantil (Director)</a:t>
            </a:r>
            <a:endParaRPr b="0" lang="en-US" sz="20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íderes de todos los demás departamentos de niños</a:t>
            </a:r>
            <a:endParaRPr b="0" lang="en-US" sz="20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tros que tengan interés y se apasionen por el Ministerio Infantil.</a:t>
            </a:r>
            <a:endParaRPr b="0" lang="en-US" sz="20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número aconsejado de miembros es entre 5 y 10.</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leve los nombres seleccionados a la junta de iglesia, para que sean aprobad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Organizando la Comisión de Ministerio Infantil</a:t>
            </a:r>
            <a:endParaRPr b="1" lang="en-US" sz="4000" spc="-1" strike="noStrike">
              <a:solidFill>
                <a:srgbClr val="bd9d69"/>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ESPONSABILIDADES DE LA COMISIÓN</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a comisión trabajará par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optar una corta frase de misión.</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ducir un diagnóstico de necesidades de los niños de la iglesia y de la comunidad.</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arrollar un plan general.</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lanificar un calendario de programas para niños</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ordinar el calendario de Ministerio Infantil con los otros departamentos de la iglesi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arrollar un presupuesto para esos programas que se han planificado.</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strar  su programa y presupuesto a la junta de iglesia y pedir los fondos.</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tener al día los datos de los niños que participaron en actividades de la iglesia; archivarlos con la secretaria de la iglesi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pacitar y apoyar a los líderes de los programas.</a:t>
            </a:r>
            <a:endParaRPr b="0" lang="en-US" sz="2000" spc="-1" strike="noStrike">
              <a:solidFill>
                <a:srgbClr val="000000"/>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ncuestas</a:t>
            </a:r>
            <a:endParaRPr b="1" lang="en-US" sz="4400" spc="-1" strike="noStrike">
              <a:solidFill>
                <a:srgbClr val="bd9d69"/>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DUCIENDO ENCUESTAS DE DIAGNÓSTICO DE NECESIDADES</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Es extremadamente importante realizar una encuesta de necesidades de las familias y de los niños en su iglesia y comunidad. Los resultados serán usados para ayudar al Coordinador de Ministerio Infantil y a la comisión para desarrollar un programa, organizar actividades, entrenar a los maestros, y desarrollar objetivos. Desarrolle una corta encuesta, que los miembros de su iglesia puedan llenar en 3-5 minutos. El siguiente ejemplo puede ser usado.</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Encuesta de diagnóstico de necesidades del Ministerio Infantil</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emos diseñado esta encuesta con el objetivo de servirle mejor a usted y a sus hijos. Por favor tome unos minutos para responder las siguientes preguntas. Los resultados de esta encuesta serán de gran ayuda en la preparación de programas, desarrollo de recursos, y definición de objetivos para nuestro ministerio hacia los niños en general.</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ántos niños tiene?__________________________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áles son sus edades?________________________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iene un niño con necesidades especiales? SI NO Edad: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tipo de programas le gustaría que organizáramos para sus hijo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ncuestas</a:t>
            </a:r>
            <a:endParaRPr b="1" lang="en-US" sz="4400" spc="-1" strike="noStrike">
              <a:solidFill>
                <a:srgbClr val="bd9d69"/>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que (X) para escoger los que desea.</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retiros</a:t>
            </a:r>
            <a:r>
              <a:rPr b="1" lang="en-US" sz="1800" spc="-1" strike="noStrike">
                <a:solidFill>
                  <a:srgbClr val="000000"/>
                </a:solidFill>
                <a:latin typeface="Garamond"/>
              </a:rPr>
              <a:t>	</a:t>
            </a:r>
            <a:r>
              <a:rPr b="1" lang="en-US" sz="1800" spc="-1" strike="noStrike">
                <a:solidFill>
                  <a:srgbClr val="000000"/>
                </a:solidFill>
                <a:latin typeface="Garamond"/>
              </a:rPr>
              <a:t>(   ) día/fin de semana de manualidades</a:t>
            </a:r>
            <a:r>
              <a:rPr b="1" lang="en-US" sz="1800" spc="-1" strike="noStrike">
                <a:solidFill>
                  <a:srgbClr val="000000"/>
                </a:solidFill>
                <a:latin typeface="Garamond"/>
              </a:rPr>
              <a:t>	</a:t>
            </a:r>
            <a:r>
              <a:rPr b="1" lang="en-US" sz="1800" spc="-1" strike="noStrike">
                <a:solidFill>
                  <a:srgbClr val="000000"/>
                </a:solidFill>
                <a:latin typeface="Garamond"/>
              </a:rPr>
              <a:t>(   ) proyecto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servicio</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coro</a:t>
            </a:r>
            <a:r>
              <a:rPr b="1" lang="en-US" sz="1800" spc="-1" strike="noStrike">
                <a:solidFill>
                  <a:srgbClr val="000000"/>
                </a:solidFill>
                <a:latin typeface="Garamond"/>
              </a:rPr>
              <a:t>	</a:t>
            </a:r>
            <a:r>
              <a:rPr b="1" lang="en-US" sz="1800" spc="-1" strike="noStrike">
                <a:solidFill>
                  <a:srgbClr val="000000"/>
                </a:solidFill>
                <a:latin typeface="Garamond"/>
              </a:rPr>
              <a:t>(   ) grupo de oración</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ministerio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de marionetas</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cocina</a:t>
            </a:r>
            <a:r>
              <a:rPr b="1" lang="en-US" sz="1800" spc="-1" strike="noStrike">
                <a:solidFill>
                  <a:srgbClr val="000000"/>
                </a:solidFill>
                <a:latin typeface="Garamond"/>
              </a:rPr>
              <a:t>	</a:t>
            </a:r>
            <a:r>
              <a:rPr b="1" lang="en-US" sz="1800" spc="-1" strike="noStrike">
                <a:solidFill>
                  <a:srgbClr val="000000"/>
                </a:solidFill>
                <a:latin typeface="Garamond"/>
              </a:rPr>
              <a:t>(   ) juegos/concursos bíblicos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feria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salud</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picnic</a:t>
            </a:r>
            <a:r>
              <a:rPr b="1" lang="en-US" sz="1800" spc="-1" strike="noStrike">
                <a:solidFill>
                  <a:srgbClr val="000000"/>
                </a:solidFill>
                <a:latin typeface="Garamond"/>
              </a:rPr>
              <a:t>	</a:t>
            </a:r>
            <a:r>
              <a:rPr b="1" lang="en-US" sz="1800" spc="-1" strike="noStrike">
                <a:solidFill>
                  <a:srgbClr val="000000"/>
                </a:solidFill>
                <a:latin typeface="Garamond"/>
              </a:rPr>
              <a:t>(   ) conducta</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club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predicación</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tros: ______________________________________________________________</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tipo de programas le gustaría que organizáramos para los padres?</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___________________________________________________</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i tuviera que escoger los tres programas mas necesarios, ¿cuáles escogería?</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8.  Plan Balanceado</a:t>
            </a:r>
            <a:endParaRPr b="1" lang="en-US" sz="4400" spc="-1" strike="noStrike">
              <a:solidFill>
                <a:srgbClr val="bd9d69"/>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OBJETIVOS EFECTIVO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	</a:t>
            </a:r>
            <a:r>
              <a:rPr b="0" lang="es-ES_tradnl" sz="1600" spc="-1" strike="noStrike">
                <a:solidFill>
                  <a:srgbClr val="000000"/>
                </a:solidFill>
                <a:latin typeface="Garamond"/>
              </a:rPr>
              <a:t>Es muy importante que se escriban los objetivos para el Ministerio Infantil. Sin objetivos, usted puede estar ocupado organizando programas sin lograr cumplir con su misión de fomentar a los niños y guiarlos a una relación más cercana con Jesú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	</a:t>
            </a:r>
            <a:r>
              <a:rPr b="0" lang="es-ES_tradnl" sz="1600" spc="-1" strike="noStrike">
                <a:solidFill>
                  <a:srgbClr val="000000"/>
                </a:solidFill>
                <a:latin typeface="Garamond"/>
              </a:rPr>
              <a:t>Al establecer sus objetivos, hágase las siguientes pregunta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Cuál es nuestro objetivo principal?</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Es nuestro programa Cristocéntrico?</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Cuántos niños quiere alcanzar?</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Qué programas alimentarán a los niños, cognoscitiva, social, y espiritualmente en nuestra iglesi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Qué programas alcanzarán a los niños de la comunidad y los atraerán hacia la iglesi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Para ser exitosos, los objetivos deben ser: </a:t>
            </a:r>
            <a:r>
              <a:rPr b="1" lang="es-ES_tradnl" sz="1600" spc="-1" strike="noStrike">
                <a:solidFill>
                  <a:srgbClr val="000000"/>
                </a:solidFill>
                <a:latin typeface="Garamond"/>
              </a:rPr>
              <a:t>específicos, alcanzables y medible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nuestros objetivos específico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realistas, que nuestro personal y nuestros recursos pueden alcanzar?</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alcanzable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Podemos medir el éxito en nuestros objetivo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endParaRPr b="0" lang="en-US" sz="3200" spc="-1" strike="noStrike">
              <a:solidFill>
                <a:srgbClr val="000000"/>
              </a:solidFill>
              <a:latin typeface="Garamond"/>
            </a:endParaRPr>
          </a:p>
          <a:p>
            <a:pPr marL="329040" indent="-3290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or ejemplo, el coordinador de Ministerio Infantil de la iglesia local puede organizar </a:t>
            </a:r>
            <a:endParaRPr b="0" lang="en-US" sz="32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upos de oración de niños los miércoles por la noche, </a:t>
            </a:r>
            <a:endParaRPr b="0" lang="en-US" sz="28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 retiro de niños una vez al año, </a:t>
            </a:r>
            <a:endParaRPr b="0" lang="en-US" sz="28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 un proyecto comunitario el primer domingo de cada mes.</a:t>
            </a:r>
            <a:endParaRPr b="0" lang="en-US" sz="2800" spc="-1" strike="noStrike">
              <a:solidFill>
                <a:srgbClr val="000000"/>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Programas</a:t>
            </a:r>
            <a:endParaRPr b="1" lang="en-US" sz="4400" spc="-1" strike="noStrike">
              <a:solidFill>
                <a:srgbClr val="bd9d69"/>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da departamento de Ministerio Infantil debería consistir de cuatro áreas principales de programación. El crecimiento espiritual básico en los niños es un balance entre estas cuatro áreas, similar al balance de la nutrición en las comida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peritivos (Actividades sencillas, sólo para divertirse, que alcancen a todos los niño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nes (Oportunidades para que los niños usen sus talentos e intereses en un nivel de compromiso bajo, con Jesús y co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egetales (Estudios bíblicos que ayudan a los niños a aprender los puntos básicos de la fe), y</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rnes (oportunidades de servir que ayudan a los niños a desarrollar habilidades de liderazgo).</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Programas</a:t>
            </a:r>
            <a:endParaRPr b="1" lang="en-US" sz="4400" spc="-1" strike="noStrike">
              <a:solidFill>
                <a:srgbClr val="bd9d69"/>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dentifique de tres a cinco programas muy necesitados que escogerá dirigir por el año, para niños y maestros. No planifique más de lo que pueda hacer, puesto que puede terminar completamente agotado/a. Es una buena idea desarrollar una filosofía para la programación. A continuación le damos algunos puntos que puede tener en mente y que le pueden ayudar:</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gente viene primero—enfrente las necesidades de los niños hoy.</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no funciona, pruebe otra cosa.</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ágalo económic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Promoviendo Programas</a:t>
            </a:r>
            <a:endParaRPr b="1" lang="en-US" sz="4400" spc="-1" strike="noStrike">
              <a:solidFill>
                <a:srgbClr val="bd9d69"/>
              </a:solidFill>
              <a:latin typeface="Garamond"/>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a promoción es crucial en el éxito de cada programa. Asegúrese de promover y anunciar su programa por tres o cuatro semanas. Pruebe lo siguiente:</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el boletín de la iglesia, cartas, anuncios, carteleras, para que otros sepan de su program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afiches y colóquelos en el vestíbulo de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e los niños adelante cuando haga el anuncio de su programa e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ima anuncios y entréguelos a niños y padres e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servicio público de radio y anuncios de televisión, anuncios en el periódico, para invitar a los niños de la comunidad a que asistan.</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que los niños elaboren tarjetas de invitación atractivas para invitar a sus amiguit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Haciendo Pública su Imagen</a:t>
            </a:r>
            <a:endParaRPr b="1" lang="en-US" sz="4400" spc="-1" strike="noStrike">
              <a:solidFill>
                <a:srgbClr val="bd9d69"/>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CIENDO PUBLICIDAD A SU IMAGEN</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ucho de lo que hacemos en el Ministerio Infantil pasa inadvertido al promedio de miembros de la iglesia. Es importante que le dejemos saber a la iglesia lo que estamos haciendo por nuestros niños en términos de crecimiento y desarrollo espiritual. Crear una imagen no se refiere a lucir bonito o bonita; es exponer lo que está sucediendo dentro de los salones de la Escuela Sabática, rincón de manualidades, y salones de oración. ¡Esté visible, Coordinador de Ministerio Infantil! ¡Deje que el mundo se entere de que usted y su equipo se preocupan por los niñ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Haciendo Pública su Imagen</a:t>
            </a:r>
            <a:endParaRPr b="1" lang="en-US" sz="4400" spc="-1" strike="noStrike">
              <a:solidFill>
                <a:srgbClr val="bd9d69"/>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Garamond"/>
              </a:rPr>
              <a:t>5  pasos para construir una imagen</a:t>
            </a:r>
            <a:endParaRPr b="0" lang="en-US" sz="24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Muestre a sus niños en varios programas:</a:t>
            </a:r>
            <a:endParaRPr b="0" lang="en-US" sz="18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oro de niñ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Dramas infantile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Niños en el culto de adul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Otros programas</a:t>
            </a:r>
            <a:endParaRPr b="0" lang="en-US" sz="16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ida a su pastor que predique acerca de la importancia del Ministerio Infantil.</a:t>
            </a:r>
            <a:endParaRPr b="0" lang="en-US" sz="18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arrolle un video inspirador de 5-10 minutos de duración para presentar el Ministerio Infantil a la iglesia y mantenerla informada.</a:t>
            </a:r>
            <a:endParaRPr b="0" lang="en-US" sz="18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arrollar un material impreso con una excelente presentación, que refleje su visión así como también sus programas.</a:t>
            </a:r>
            <a:endParaRPr b="0" lang="en-US" sz="18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nfle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Folle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artas de noticias</a:t>
            </a:r>
            <a:endParaRPr b="0" lang="en-US" sz="16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5.   Use el logo de Ministerio Infantil  en todas las actividad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El presupuesto es su visión del ministerio expresada en dinero. Un presupuesto, es simplemente un estimado del dinero que usted piensa que va a gastar en un tiempo específico. </a:t>
            </a:r>
            <a:r>
              <a:rPr b="1" lang="en-US" sz="2400" spc="-1" strike="noStrike">
                <a:solidFill>
                  <a:srgbClr val="000000"/>
                </a:solidFill>
                <a:latin typeface="Garamond"/>
              </a:rPr>
              <a:t>Es mejor estimar de más que de menos.</a:t>
            </a: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SOS PARA CREAR SU PRESUPUESTO</a:t>
            </a: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e las necesidades.</a:t>
            </a:r>
            <a:endParaRPr b="0" lang="en-US" sz="24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re los objetivos del departament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é funcionó y qué no funcionó el año pasad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sidere las condiciones financieras del departament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uede costear nuevas ideas?</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ando le sea posible, establezca cifras alt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dentifique sus categorías.</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bros y otros materiale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esión y fotocopia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ministros y otros materiales</a:t>
            </a:r>
            <a:endParaRPr b="0" lang="en-US" sz="2000" spc="-1" strike="noStrike">
              <a:solidFill>
                <a:srgbClr val="000000"/>
              </a:solidFill>
              <a:latin typeface="Garamond"/>
            </a:endParaRPr>
          </a:p>
          <a:p>
            <a:pPr lvl="3" marL="1440000" indent="-2055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quipo</a:t>
            </a:r>
            <a:endParaRPr b="0" lang="en-US" sz="1600" spc="-1" strike="noStrike">
              <a:solidFill>
                <a:srgbClr val="000000"/>
              </a:solidFill>
              <a:latin typeface="Garamond"/>
            </a:endParaRPr>
          </a:p>
          <a:p>
            <a:pPr lvl="3" marL="1440000" indent="-2055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gramas</a:t>
            </a:r>
            <a:endParaRPr b="0" lang="en-US" sz="16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valúe los presupuestos anteriores del departamento.</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 lograron los planes como estaban presupuestado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y áreas que requieren que se lleve más dinero para el nuevo año?</a:t>
            </a:r>
            <a:endParaRPr b="0" lang="en-US" sz="20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tablezca sus cifras</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é prioridad a las necesidades y programas del departamento.</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a visionario y prepare grandes presupuestos para sus programas.</a:t>
            </a:r>
            <a:endParaRPr b="0" lang="en-US" sz="20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talle y justifique sus cifras.</a:t>
            </a: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vise el presupuesto con las personas o comisión apropiadas.</a:t>
            </a: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 la comisión de presupuesto le regresa el presupuesto con recomendaciones para reducir los gastos, entonces usted necesita poner cada categoría y cifras en un riguroso examen. Para cada cifra, hágase las siguientes pregun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94840" indent="-2948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demos lograr el mismo objetivo de una manera más económica?</a:t>
            </a:r>
            <a:endParaRPr b="0" lang="en-US" sz="28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ta compra vital para la visión de nuestro ministeri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te el momento correcto para esta compra o gast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emos hecho todo lo necesario para justificar este gast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 experiencia anterior apoya esta compra?</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tamos dispuestos a ser flexibles en esta compra?</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ómo podríamos recoger el dinero en otro lugar para lograr nuestra visió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Presupuesto para Ministerio Infantil</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Escuela sabátic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ateriales de la casa publicador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Funcionamiento de la división de:</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Cun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Infant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Primari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enor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dolescent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tividades de naturalez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Retir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Grupos pequeñ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rama de Semana Sant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rama de navidad</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Biblia hace muy claro que los niños son muy especiales para Dios. Si usted examina lo que la Biblia dice acerca de los niños, notará un gran número de perspectivas</a:t>
            </a:r>
            <a:r>
              <a:rPr b="0" lang="es-ES_tradnl" sz="2800" spc="-1" strike="noStrike" u="sng">
                <a:solidFill>
                  <a:srgbClr val="ff9900"/>
                </a:solidFill>
                <a:uFillTx/>
                <a:latin typeface="Garamond"/>
                <a:hlinkClick r:id="rId2" action="ppaction://hlinksldjump"/>
              </a:rPr>
              <a:t>[1]</a:t>
            </a:r>
            <a:r>
              <a:rPr b="0" lang="es-ES_tradnl" sz="2800" spc="-1" strike="noStrike">
                <a:solidFill>
                  <a:srgbClr val="000000"/>
                </a:solidFill>
                <a:latin typeface="Garamond"/>
              </a:rPr>
              <a:t>: </a:t>
            </a:r>
            <a:endParaRPr b="0" lang="en-US" sz="2800" spc="-1" strike="noStrike">
              <a:solidFill>
                <a:srgbClr val="000000"/>
              </a:solidFill>
              <a:latin typeface="Garamond"/>
            </a:endParaRPr>
          </a:p>
          <a:p>
            <a:pPr marL="332640" indent="-332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Garamond"/>
              </a:rPr>
              <a:t>Los niños son un regalo de Dios</a:t>
            </a:r>
            <a:r>
              <a:rPr b="0" i="1" lang="es-ES_tradnl" sz="2800" spc="-1" strike="noStrike">
                <a:solidFill>
                  <a:srgbClr val="000000"/>
                </a:solidFill>
                <a:latin typeface="Garamond"/>
              </a:rPr>
              <a:t>.</a:t>
            </a:r>
            <a:r>
              <a:rPr b="0" lang="es-ES_tradnl" sz="2800" spc="-1" strike="noStrike">
                <a:solidFill>
                  <a:srgbClr val="000000"/>
                </a:solidFill>
                <a:latin typeface="Garamond"/>
              </a:rPr>
              <a:t> El les da los hijos a los padres como señal especial de amor y satisfacción personal. (Deut. 7:13; Sal. 127:3)</a:t>
            </a:r>
            <a:endParaRPr b="0" lang="en-US" sz="2800" spc="-1" strike="noStrike">
              <a:solidFill>
                <a:srgbClr val="000000"/>
              </a:solidFill>
              <a:latin typeface="Garamond"/>
            </a:endParaRPr>
          </a:p>
          <a:p>
            <a:pPr marL="332640" indent="-332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Garamond"/>
              </a:rPr>
              <a:t>Los niños son deseables</a:t>
            </a:r>
            <a:r>
              <a:rPr b="0" i="1" lang="es-ES_tradnl" sz="2800" spc="-1" strike="noStrike">
                <a:solidFill>
                  <a:srgbClr val="000000"/>
                </a:solidFill>
                <a:latin typeface="Garamond"/>
              </a:rPr>
              <a:t>.</a:t>
            </a:r>
            <a:r>
              <a:rPr b="0" lang="es-ES_tradnl" sz="2800" spc="-1" strike="noStrike">
                <a:solidFill>
                  <a:srgbClr val="000000"/>
                </a:solidFill>
                <a:latin typeface="Garamond"/>
              </a:rPr>
              <a:t> Desde la creación, Dios nos ha instruido a tener hijos (Gen. 9:7; Deum. 6:3).</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tividades misionera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ía de manualidad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Proyectos comunitari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Clubes de Amigos de la Comunidad</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Equip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isceláne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otal del presupuesto de Ministerio Infantil </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scuela Sabátic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ctividades de naturalez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ctividades misionera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quip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isceláne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TOTAL PRESUPUESTAD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alúe y ajuste su presupuesto regularment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RECOLECTANDO FONDO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La recolección de fondos en el Ministerio Infantil puede ser agotadora y es especialmente un reto en iglesias pequeñas donde hay poca gente que contribuya. Pero aún las iglesias pequeñas pueden tener éxito, cuando éstas incorporan ideas  innovadoras para crear conciencia de su ministerio y para levantar fondos.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10  secretos exitosos para la recolección de fondos</a:t>
            </a:r>
            <a:endParaRPr b="0" lang="en-US" sz="20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urante cada recolección de fondos enfóquese en la provisión de Di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braye la ganancia de dinero con diversión!</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mente el crecimiento de los niños. Enseñe a los niños cómo ser responsables y trabajar duro.</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 limite las cantidades. Sugiera una donación, y los adultos podrían dar má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uerde pedir la autorización de su pastor para todas las recoleccione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a que todos se beneficien; los que dan y los que reciben.</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volucre a los niñ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grame las recolecciones cerca de los días festivos, cuando la gente está de buen humor para dar.</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barque oportunidades naturales, patrocinando eventos como comidas para recoger fond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ista la exageración. Las recolecciones de fondos esporádicas son más efectivas que las mensual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Reclutando Voluntarios</a:t>
            </a:r>
            <a:endParaRPr b="1" lang="en-US" sz="4400" spc="-1" strike="noStrike">
              <a:solidFill>
                <a:srgbClr val="bd9d69"/>
              </a:solidFill>
              <a:latin typeface="Garamond"/>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CLUTANDO Y APOYANDO VOLUNTARI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s principales frustraciones que tiene los coordinadores de Ministerio Infantil son: encontrar, entrenar y motivar a los voluntarios. Encontrar a los voluntarios correctos puede ser difícil. Aquellos que están deseosos en ayudar, no siempre están capacitados. Y aquellos que están bien capacitados a menudo dicen no. ¿Cómo encontramos la ayuda que necesitam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É ES UN VOLUNTARIO?</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guien que no tiene que hacerlo, pero que lo hace de todas manera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Usted no puede despedirl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Pero ellos pueden renunciar cuando quieran.</a:t>
            </a:r>
            <a:endParaRPr b="0" lang="en-US" sz="2400" spc="-1" strike="noStrike">
              <a:solidFill>
                <a:srgbClr val="000000"/>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Reclutando Voluntarios</a:t>
            </a:r>
            <a:endParaRPr b="1" lang="en-US" sz="4400" spc="-1" strike="noStrike">
              <a:solidFill>
                <a:srgbClr val="bd9d69"/>
              </a:solidFill>
              <a:latin typeface="Garamond"/>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UN MODELO DE GRAN IMPACTO EN LA ADMINISTRACIÓN DE VOLUNTARIOS</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uesto de cuatro tareas:</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clutamiento</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lección </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paración</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derazgo</a:t>
            </a:r>
            <a:endParaRPr b="0" lang="en-US" sz="2800" spc="-1" strike="noStrike">
              <a:solidFill>
                <a:srgbClr val="0000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LECCIONANDO VOLUNTARI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Como arquero que hiere a todo el que pasa es quien contrata al necio en su casa”. Proverbios 26:10</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r qué seleccionar voluntari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ncontrar a quien Dios ha llamado al ministerio.</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combinar el don de una persona con el ministerio.</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valuar su interé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proteger a los niñ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proteger a la iglesia de responsabilidade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stablecer armonía y orde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Quién hace la selección?</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Coordinador de Ministerio Infantil</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líder del ministeri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isión de nombramientos de la igles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l papel de los seleccionador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El Coordinador de Ministerio Infantil </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cepta las aplicacion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ulta con el líder del ministe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l líder del ministerio</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yecta una vis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arte una mis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lica las siete característic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Características de un Voluntario para Ministerio Infantil </a:t>
            </a:r>
            <a:endParaRPr b="1" lang="en-US" sz="4000" spc="-1" strike="noStrike">
              <a:solidFill>
                <a:srgbClr val="bd9d69"/>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amado al ministerio</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arácter—selección de Dios</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ímica—actitud y disposición</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etencia—entrenamiento, experiencia</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istencia o congruencia</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romiso</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dición—mental, física y espiritu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99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traen gozo y bendición a los adultos</a:t>
            </a:r>
            <a:r>
              <a:rPr b="0" i="1" lang="es-ES_tradnl" sz="3200" spc="-1" strike="noStrike">
                <a:solidFill>
                  <a:srgbClr val="000000"/>
                </a:solidFill>
                <a:latin typeface="Garamond"/>
              </a:rPr>
              <a:t>.</a:t>
            </a:r>
            <a:r>
              <a:rPr b="0" lang="es-ES_tradnl" sz="3200" spc="-1" strike="noStrike">
                <a:solidFill>
                  <a:srgbClr val="000000"/>
                </a:solidFill>
                <a:latin typeface="Garamond"/>
              </a:rPr>
              <a:t> Dios provee muchos beneficios a los padres a través de la tarea de criar a sus hijos. (Num. 5:28; Deut. 28:4,11).</a:t>
            </a:r>
            <a:endParaRPr b="0" lang="en-US" sz="3200" spc="-1" strike="noStrike">
              <a:solidFill>
                <a:srgbClr val="000000"/>
              </a:solidFill>
              <a:latin typeface="Garamond"/>
            </a:endParaRPr>
          </a:p>
          <a:p>
            <a:pPr marL="332640" indent="-3326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necesitan ser enseñados a tener una relación con el Señor</a:t>
            </a:r>
            <a:r>
              <a:rPr b="0" i="1" lang="es-ES_tradnl" sz="3200" spc="-1" strike="noStrike">
                <a:solidFill>
                  <a:srgbClr val="000000"/>
                </a:solidFill>
                <a:latin typeface="Garamond"/>
              </a:rPr>
              <a:t>.</a:t>
            </a:r>
            <a:r>
              <a:rPr b="0" lang="es-ES_tradnl" sz="3200" spc="-1" strike="noStrike">
                <a:solidFill>
                  <a:srgbClr val="000000"/>
                </a:solidFill>
                <a:latin typeface="Garamond"/>
              </a:rPr>
              <a:t> Uno de nuestros más grandes retos es pasar nuestras creencias y entendimiento de la palabra de Dios a nuestros niños (Éxodo 12:26,37; Deut. 6: 1-7; Prov 22:6).</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Características de un Voluntario para Ministerio Infantil </a:t>
            </a:r>
            <a:endParaRPr b="1" lang="en-US" sz="4000" spc="-1" strike="noStrike">
              <a:solidFill>
                <a:srgbClr val="bd9d69"/>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voluntarios comprometidos dicen con David: “No voy a ofrecer al Señor mi Dios holocaustos que nada me cuesten. Te lo compraré </a:t>
            </a:r>
            <a:r>
              <a:rPr b="0" lang="es-VE" sz="2800" spc="-1" strike="noStrike">
                <a:solidFill>
                  <a:srgbClr val="000000"/>
                </a:solidFill>
                <a:latin typeface="Garamond"/>
              </a:rPr>
              <a:t>todo </a:t>
            </a:r>
            <a:r>
              <a:rPr b="0" lang="es-ES_tradnl" sz="2800" spc="-1" strike="noStrike">
                <a:solidFill>
                  <a:srgbClr val="000000"/>
                </a:solidFill>
                <a:latin typeface="Garamond"/>
              </a:rPr>
              <a:t>por su precio justo”. 2 Samuel 24:24.</a:t>
            </a: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t>
            </a:r>
            <a:r>
              <a:rPr b="0" lang="es-ES_tradnl" sz="2800" spc="-1" strike="noStrike">
                <a:solidFill>
                  <a:srgbClr val="000000"/>
                </a:solidFill>
                <a:latin typeface="Garamond"/>
              </a:rPr>
              <a:t>La mejor forma de predecir un actuación futura, es su actuación pasada”.</a:t>
            </a: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t>
            </a:r>
            <a:r>
              <a:rPr b="0" lang="es-ES_tradnl" sz="2800" spc="-1" strike="noStrike">
                <a:solidFill>
                  <a:srgbClr val="000000"/>
                </a:solidFill>
                <a:latin typeface="Garamond"/>
              </a:rPr>
              <a:t>Cuando fallan los voluntarios, la falta cae sobre el reclutador o seleccionador, no sobre el volunta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aramos voluntarios proveyend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scripción del ministeri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quipo necesari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ursos: humanos, financieros, papel</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seminarios, demostración, model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oyo, evaluación, afirmación</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a descripción del ministerio dice:</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título o posición en el ministeri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sta de ideales y funciones esenciales</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sta de entrenamiento requerid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bilidades adicionales para ese trabaj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trenamiento adicional para el ministerio</a:t>
            </a:r>
            <a:endParaRPr b="0" lang="en-US" sz="2000" spc="-1" strike="noStrike">
              <a:solidFill>
                <a:srgbClr val="000000"/>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Garamond"/>
              </a:rPr>
              <a:t>¿Por qué falla el entrenamiento?</a:t>
            </a:r>
            <a:endParaRPr b="0" lang="en-US" sz="28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llamos en proveer una planilla de aplicación para conseguir un compromiso de asistencia al entrenamiento</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entrenamiento no promueve relaciones</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sólo informa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lta de comunica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 retroalimentación—en ninguna direc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relevante</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orador no es sobresalient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ómo hacer el entrenamiento relacional</a:t>
            </a:r>
            <a:endParaRPr b="0" lang="en-US" sz="32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ame a cada uno por su nombre; tenga al grupo en acción y pase un buen tiempo.</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me interés en cada uno; comparta sus gozos y preocupaciones</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an un grupo de apoyo; oren juntos</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lgan a comer de vez en cuando y hablen alrededor de la mesa</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se el humor; planifique sorpres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aramond"/>
              </a:rPr>
              <a:t>Cómo hacer el entrenamiento relacional</a:t>
            </a:r>
            <a:endParaRPr b="0" lang="en-US" sz="20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lame a cada uno por su nombre; tenga al grupo en acción y pase un buen tiempo.</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me interés en cada uno; comparta sus gozos y preocupacione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an un grupo de apoyo; oren junto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lgan a comer de vez en cuando y hablen alrededor de la mesa</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Use el humor; planifique sorpresas</a:t>
            </a:r>
            <a:endParaRPr b="0" lang="en-US" sz="1800" spc="-1" strike="noStrike">
              <a:solidFill>
                <a:srgbClr val="000000"/>
              </a:solidFill>
              <a:latin typeface="Garamond"/>
            </a:endParaRPr>
          </a:p>
          <a:p>
            <a:pPr marL="325800" indent="-3258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rayendo a la gente al entrenamiento</a:t>
            </a:r>
            <a:endParaRPr b="0" lang="en-US" sz="20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voque a una reunión </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quiera asistencia</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udien los tema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cuche las experiencias de los voluntario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je que cada uno dé una aportación</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fuerce y dé retroalimentación </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 hable mucho</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 desperdicie el tiempo de la gent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de Josafat</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sidere cuidadosamente lo que va a hacer</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 trabajo es para Dios</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os está con usted</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temor de Jehová está sobre usted</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 injusticia, favoritismo, soborn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rva fielmente, con todo su corazón</a:t>
            </a:r>
            <a:endParaRPr b="0" lang="en-US" sz="20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UIANDO VOLUNTARIOS</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querimientos básicos </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leccione una visión</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fina la misión</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onseje y supervise personalmente </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discípulos (ofrezca un liderazgo espiritual)</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íderes efectivo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lique el evangelio—manifieste amor</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cuche la voz de Dio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me la Biblia como autorida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penda de la orac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alancee su vida entera</a:t>
            </a:r>
            <a:endParaRPr b="0" lang="en-US" sz="28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ULTIPLICANDO EL MINISTERIO</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empre sean líderes mentor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umente las responsabilidade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señe a alguien para que tome su lugar</a:t>
            </a:r>
            <a:endParaRPr b="0" lang="en-US" sz="28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ime su crecimiento personal</a:t>
            </a:r>
            <a:endParaRPr b="0" lang="en-US" sz="24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ídales que se unan a usted</a:t>
            </a:r>
            <a:endParaRPr b="0" lang="en-US" sz="24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radualmente entrégueles responsabilidade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RINCIPIOS</a:t>
            </a:r>
            <a:endParaRPr b="0" lang="en-US" sz="32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 voluntario es un hijo de Dios</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liderazgo de la iglesia necesita practicar también la mayordomía</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conozca el alto valor de un voluntario</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rvir es un privilegio</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s voluntarios son compañeros capaces</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s funciones esenciales de un líder son: reclutar, seleccionar, entrenar y discipula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DIRECTRICES DE “ADVENTIST RISK MANAGEMENT” PARA SELECCIONAR VOLUNTARIOS</a:t>
            </a:r>
            <a:endParaRPr b="0" lang="en-US" sz="3200" spc="-1" strike="noStrike">
              <a:solidFill>
                <a:srgbClr val="000000"/>
              </a:solidFill>
              <a:latin typeface="Garamond"/>
            </a:endParaRPr>
          </a:p>
          <a:p>
            <a:pPr marL="329040" indent="-3290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r>
              <a:rPr b="0" i="1" lang="es-ES_tradnl" sz="3200" spc="-1" strike="noStrike">
                <a:solidFill>
                  <a:srgbClr val="000000"/>
                </a:solidFill>
                <a:latin typeface="Garamond"/>
              </a:rPr>
              <a:t>Adventist Risk Management</a:t>
            </a:r>
            <a:r>
              <a:rPr b="0" lang="es-ES_tradnl" sz="3200" spc="-1" strike="noStrike">
                <a:solidFill>
                  <a:srgbClr val="000000"/>
                </a:solidFill>
                <a:latin typeface="Garamond"/>
              </a:rPr>
              <a:t>  provee ejemplos de directrices de varias iglesias para los coordinadores de Ministerio Infantil  y otros líderes de niños. Usted puede usarlos cuando esté seleccionando los voluntarios, y en algunos lugares los puede adaptar a sus necesid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25800" indent="-3258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son de tanto valor para Dios que nos manda a protegerlos</a:t>
            </a:r>
            <a:r>
              <a:rPr b="0" i="1" lang="es-ES_tradnl" sz="3200" spc="-1" strike="noStrike">
                <a:solidFill>
                  <a:srgbClr val="000000"/>
                </a:solidFill>
                <a:latin typeface="Garamond"/>
              </a:rPr>
              <a:t>.</a:t>
            </a:r>
            <a:r>
              <a:rPr b="0" lang="es-ES_tradnl" sz="3200" spc="-1" strike="noStrike">
                <a:solidFill>
                  <a:srgbClr val="000000"/>
                </a:solidFill>
                <a:latin typeface="Garamond"/>
              </a:rPr>
              <a:t> Los padres deben asegurar el cuidado espiritual y físico de sus hijos (1 Sam. 20:42; Esdras 8:21).</a:t>
            </a:r>
            <a:endParaRPr b="0" lang="en-US" sz="3200" spc="-1" strike="noStrike">
              <a:solidFill>
                <a:srgbClr val="000000"/>
              </a:solidFill>
              <a:latin typeface="Garamond"/>
            </a:endParaRPr>
          </a:p>
          <a:p>
            <a:pPr marL="325800" indent="-3258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Dios ama tanto a los niños que se asegura que reciban disciplina</a:t>
            </a:r>
            <a:r>
              <a:rPr b="0" i="1" lang="es-ES_tradnl" sz="3200" spc="-1" strike="noStrike">
                <a:solidFill>
                  <a:srgbClr val="000000"/>
                </a:solidFill>
                <a:latin typeface="Garamond"/>
              </a:rPr>
              <a:t>.</a:t>
            </a:r>
            <a:r>
              <a:rPr b="0" lang="es-ES_tradnl" sz="3200" spc="-1" strike="noStrike">
                <a:solidFill>
                  <a:srgbClr val="000000"/>
                </a:solidFill>
                <a:latin typeface="Garamond"/>
              </a:rPr>
              <a:t> (Prov. 3:11,12; 13:24; 19:18; Efe. 6:4).</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Adventist Risk Management, Inc.</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Garamond"/>
              </a:rPr>
              <a:t>El servicio de administración de riesgos de la Iglesia Adventista del Séptimo Día Mundia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niños serán supervisados por un adulto (s) a toda hor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programas de los niños serán conducidos en circunstancias tolerables libres de abusos y acoso, a toda hor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Garamond"/>
              </a:rPr>
              <a:t>Salvaguardando la administración de voluntarios del  Ministerio Infantil – Mejores entrenamientos</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Enfoque en la misión</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Siempre haga de su misión, el foco principa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orientación de los voluntarios es una misión conducid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entrenamientos y las pólizas de los voluntarios están enfocadas en la misión</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espido de voluntarios es para mantener su misión</a:t>
            </a:r>
            <a:endParaRPr b="0" lang="en-US" sz="2000" spc="-1" strike="noStrike">
              <a:solidFill>
                <a:srgbClr val="000000"/>
              </a:solidFill>
              <a:latin typeface="Garamond"/>
            </a:endParaRPr>
          </a:p>
          <a:p>
            <a:pPr marL="78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Oportunidad para mejores entrenamientos en el Ministerio Infantil </a:t>
            </a:r>
            <a:endParaRPr b="0" lang="en-US" sz="2800" spc="-1" strike="noStrike">
              <a:solidFill>
                <a:srgbClr val="000000"/>
              </a:solidFill>
              <a:latin typeface="Garamond"/>
            </a:endParaRPr>
          </a:p>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La iglesia local debería dar pasos razonables para resguardar a los niños que participan en las actividades patrocinadas por la iglesia, escogiendo como líderes y participantes en programas de niños a individuos con altos valores espirituales y morales.</a:t>
            </a:r>
            <a:endParaRPr b="0" lang="en-US" sz="2800" spc="-1" strike="noStrike">
              <a:solidFill>
                <a:srgbClr val="000000"/>
              </a:solidFill>
              <a:latin typeface="Garamond"/>
            </a:endParaRPr>
          </a:p>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Manual de Iglesia, Revisión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del 2000  página 120- inglé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Las iglesias son vulnerable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unidad de fe</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gnorancia de hechos relacionados al abuso infantil</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lta de medidas de seguridad para proteger a los niño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umerosas oportunidades para trabajar con los niño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ácil acceso a los niños sin requisitos de selección</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tante necesidad de voluntarios para que trabajen en los ministerios de niños y jóven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Responsabilidades de la organización</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ger a todos los niños de cualquier peligro</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mitir la participación segura en las actividades de la iglesia o escuela</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e todas las actividades estén supervisadas propiamente por empleados o voluntarios entrenados</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ntenimiento apropiado al lugar de las instalaciones para limitar las oportunidades de dañ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7394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jercer cuidado razonable en el personal que incluirá:</a:t>
            </a:r>
            <a:endParaRPr b="0" lang="en-US" sz="28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idadosa selección del los empleados y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apropiado para los miembros del personal y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ida supervisión del personal y los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cciones apropiadas cuando sea necesario despedir a un miembro del personal</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er de reportar todos los incidentes o sospechas de abuso infantil de acuerdo con la ley.</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Responsabilidades de niños y adultos</a:t>
            </a:r>
            <a:endParaRPr b="0" lang="en-US" sz="2800" spc="-1" strike="noStrike">
              <a:solidFill>
                <a:srgbClr val="000000"/>
              </a:solidFill>
              <a:latin typeface="Garamond"/>
            </a:endParaRPr>
          </a:p>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dultos con previos actos conocidos de abuso u otra conducta inapropiada no se les permitirá participar en los programas de Ministerio Infantil, patrocinados por la iglesia.</a:t>
            </a:r>
            <a:endParaRPr b="0" lang="en-US" sz="2800" spc="-1" strike="noStrike">
              <a:solidFill>
                <a:srgbClr val="000000"/>
              </a:solidFill>
              <a:latin typeface="Garamond"/>
            </a:endParaRPr>
          </a:p>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tomarán los pasos necesarios para evitar la sospecha de adultos involucrados con la supervisión, a través de las siguientes medidas de protecció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regla de los seis meses será usada para conocer a los nuevos voluntarios.</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regla de dos adultos será practicada en todas las actividades patrocinadas por la iglesia.</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Requerir que todos los voluntarios adultos participen en un programa anual de concientización del abuso infantil.</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Todas las acusaciones de conductas inapropiadas serán investigadas rápidamente por la iglesia y se tomarán las medidas de corrección necesarias.</a:t>
            </a:r>
            <a:endParaRPr b="0" lang="en-US" sz="2000" spc="-1" strike="noStrike">
              <a:solidFill>
                <a:srgbClr val="000000"/>
              </a:solidFill>
              <a:latin typeface="Garamond"/>
            </a:endParaRPr>
          </a:p>
          <a:p>
            <a:pPr marL="804600" indent="-8046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Si las acusaciones son hechas en contra de un adulto por conducta inapropiada con un niño, se respetarán los derechos del individuo y todos los asuntos envueltos en la situación se tratarán confidencialment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nemos el deber de manejar todas las actividades en armonía con el consejo de Mateo 7:12.</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La regla de los seis meses y la selección de voluntarios</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optar la práctica de que ningún adulto será considerado para un puesto de liderazgo en un programa de Ministerio Infantil patrocinado por la iglesia, hasta que haya sido miembro de la congregación por un mínimo de seis (6) meses.</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querir a todos los voluntarios adultos que completen la planilla de información para servicio voluntario, para que pueda ser considerado como un candidato para un servicio voluntario en su iglesi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mbrar una pequeña comisión de revisión de voluntarios (3-5 miembros) para que lleve a cabo la evaluación de las aplicaciones de voluntarios para el Ministerio Infantil.</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terminar el nivel de selección apropiado requerido para todas las posiciones de voluntarios que tengan que ver con el Ministerio Infantil.</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ducir un nivel básico de selección para todos los adultos voluntarios que incluirá los siguientes element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trevista personal del voluntario con los líderes de: Ministerio Infantil, Escuela Sabática, Conquistadores, Aventureros, etc.</a:t>
            </a:r>
            <a:endParaRPr b="0" lang="en-US" sz="2800" spc="-1" strike="noStrike">
              <a:solidFill>
                <a:srgbClr val="000000"/>
              </a:solidFill>
              <a:latin typeface="Garamond"/>
            </a:endParaRPr>
          </a:p>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enar completamente la planilla de información para servicio voluntario requerida, con firma del voluntario adulto que está aplicando</a:t>
            </a:r>
            <a:endParaRPr b="0" lang="en-US" sz="2800" spc="-1" strike="noStrike">
              <a:solidFill>
                <a:srgbClr val="000000"/>
              </a:solidFill>
              <a:latin typeface="Garamond"/>
            </a:endParaRPr>
          </a:p>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queo de referencias personales hechas por la comisión de revisión de voluntari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Dios se goza con la naturaleza y personalidad de los niños y les pide a los adultos que aprendan de ellos</a:t>
            </a:r>
            <a:r>
              <a:rPr b="0" i="1" lang="en-US" sz="2800" spc="-1" strike="noStrike">
                <a:solidFill>
                  <a:srgbClr val="000000"/>
                </a:solidFill>
                <a:latin typeface="Garamond"/>
              </a:rPr>
              <a:t>.</a:t>
            </a:r>
            <a:r>
              <a:rPr b="0" lang="en-US" sz="2800" spc="-1" strike="noStrike">
                <a:solidFill>
                  <a:srgbClr val="000000"/>
                </a:solidFill>
                <a:latin typeface="Garamond"/>
              </a:rPr>
              <a:t> La escritura identifica atributos como sinceridad, humildad, sencillez, y confianza, como cualidades que se encuentran en los niños, y Dios aprecia mucho estas características (Mateo 18:3; 19:14; Fil. 2:15).</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los niños le importan tanto a Dios, así mismo también debieran importarnos a nosotros. Es vital que tomemos a los niños seriamente, porque ellos son herencia del Señor.</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un nivel adicional de selección es requerido por la posición que va a ocupar el voluntario, ésta debería ser realizada antes que se le permita al voluntario comenzar a trabajar en el programa.</a:t>
            </a:r>
            <a:endParaRPr b="0" lang="en-US" sz="2800" spc="-1" strike="noStrike">
              <a:solidFill>
                <a:srgbClr val="000000"/>
              </a:solidFill>
              <a:latin typeface="Garamond"/>
            </a:endParaRPr>
          </a:p>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isión de revisión de voluntarios, notificará tanto al líder encargado como al voluntario, que la aplicación ha sido aprobada</a:t>
            </a:r>
            <a:endParaRPr b="0" lang="en-US" sz="2800" spc="-1" strike="noStrike">
              <a:solidFill>
                <a:srgbClr val="000000"/>
              </a:solidFill>
              <a:latin typeface="Garamond"/>
            </a:endParaRPr>
          </a:p>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da la información recibida y la planilla de información del voluntario se mantendrán y archivarán en la igles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Niveles de selección de servicio voluntario</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ásico—todos los voluntarios</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trevista personal del voluntario</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te involucrarse en una explicación prolongada acerca del por qué es obligatoria la selección de voluntarios en su iglesia. Maneje este tipo de preguntas en una reunión privada con la persona que está haciendo la objeción en el proceso de selección.</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vise todas las aplicaciones para asegurarse que están completamente llenas y debidamente firmad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Invite personalmente a cada voluntario que no haya llenado la aplicación completamente para volverla a estudiar. Cualquier objeción a preguntas específicas de la planilla  serán tratadas y se le debe animar al aplicante a participar en el proceso de selección para mantener la integridad de su programa. Manténgase ENFOCADO en su misión.</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No pase por encima del proceso de selección. Todos los voluntarios necesitan completar un nivel básico de selección.</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Si el aplicante se rehúsa a cooperar con el proceso de selección establecido, no se le debería dejar participar en una posición de servicio que involucre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Garamond"/>
              </a:rPr>
              <a:t>Elementos claves para el entrenamiento de voluntarios</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en la misión de su programa de Ministerio Infantil.</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ntendimiento de las expectativas, código de conducta,  y reglas, relacionadas a la interacción con los niños que se deben seguir en su programa.</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en la concientización acerca del abuso infantil (físico y sexual) y cuales son los pasos que la iglesia ha tomado para prevenir que ocurran casos de abuso infantil en su programa.</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acerca del buen toque – mal toque, y entrenamiento de cómo tratar con niños en una manera apropiad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Haga claro que la falla en cumplir con el código de conducta y reglas establecidas, puede resultar en la petición de prescindir de su participación en el program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se miembros profesionales (maestros, médicos, abogados, trabajadores sociales, etc.) de su iglesia para dirigir los programas de entrenamiento de voluntarios, de esta manera brinda credibilidad y apoyo a sus esfuerzos de protección de los niños.</a:t>
            </a:r>
            <a:r>
              <a:rPr b="1" lang="es-ES_tradnl" sz="2000" spc="-1" strike="noStrike" u="sng">
                <a:solidFill>
                  <a:srgbClr val="000000"/>
                </a:solidFill>
                <a:uFillTx/>
                <a:latin typeface="Garamond"/>
              </a:rPr>
              <a:t>Ad</a:t>
            </a:r>
            <a:r>
              <a:rPr b="1" i="1" lang="es-ES_tradnl" sz="2000" spc="-1" strike="noStrike" u="sng">
                <a:solidFill>
                  <a:srgbClr val="000000"/>
                </a:solidFill>
                <a:uFillTx/>
                <a:latin typeface="Garamond"/>
              </a:rPr>
              <a:t>ventist Risk Management </a:t>
            </a:r>
            <a:r>
              <a:rPr b="1" lang="es-ES_tradnl" sz="2000" spc="-1" strike="noStrike" u="sng">
                <a:solidFill>
                  <a:srgbClr val="000000"/>
                </a:solidFill>
                <a:uFillTx/>
                <a:latin typeface="Garamond"/>
              </a:rPr>
              <a:t>provee estas directrices y formas para ayudar con el desarrollo de programas seguros y con control de riesgos. </a:t>
            </a:r>
            <a:r>
              <a:rPr b="1" i="1" lang="es-ES_tradnl" sz="2000" spc="-1" strike="noStrike" u="sng">
                <a:solidFill>
                  <a:srgbClr val="000000"/>
                </a:solidFill>
                <a:uFillTx/>
                <a:latin typeface="Garamond"/>
              </a:rPr>
              <a:t>Adventist Risk Management</a:t>
            </a:r>
            <a:r>
              <a:rPr b="1" lang="es-ES_tradnl" sz="2000" spc="-1" strike="noStrike" u="sng">
                <a:solidFill>
                  <a:srgbClr val="000000"/>
                </a:solidFill>
                <a:uFillTx/>
                <a:latin typeface="Garamond"/>
              </a:rPr>
              <a:t> no asume la responsabilidad del manejo o control de las actividades aseguradas. La responsabilidad de parte de </a:t>
            </a:r>
            <a:r>
              <a:rPr b="1" i="1" lang="es-ES_tradnl" sz="2000" spc="-1" strike="noStrike" u="sng">
                <a:solidFill>
                  <a:srgbClr val="000000"/>
                </a:solidFill>
                <a:uFillTx/>
                <a:latin typeface="Garamond"/>
              </a:rPr>
              <a:t>Adventist Risk Management, Inc.</a:t>
            </a:r>
            <a:r>
              <a:rPr b="1" lang="es-ES_tradnl" sz="2000" spc="-1" strike="noStrike" u="sng">
                <a:solidFill>
                  <a:srgbClr val="000000"/>
                </a:solidFill>
                <a:uFillTx/>
                <a:latin typeface="Garamond"/>
              </a:rPr>
              <a:t> es de esta forma negad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ISIÓN:</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uestra misión es proveer una seguridad espiritual y un ambiente libre de abusos, para cada niño que asiste a programas y actividades de la Iglesia Adventista del Séptimo Día de: _________________________________.</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BJETIVO:</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 nuestro objetivo prevenir cualquier forma de abuso infantil, físico, emocional o sexual y proteger a nuestros empleados y voluntarios de falsas acusaciones por tales act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FINICIONES:</a:t>
            </a:r>
            <a:r>
              <a:rPr b="1"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iños: Cuna hasta primarios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iños grandes: Menores hasta adolescentes</a:t>
            </a:r>
            <a:endParaRPr b="0" lang="en-US" sz="2000" spc="-1" strike="noStrike">
              <a:solidFill>
                <a:srgbClr val="000000"/>
              </a:solidFill>
              <a:latin typeface="Garamond"/>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buso infantil: </a:t>
            </a:r>
            <a:r>
              <a:rPr b="0" lang="en-US" sz="2000" spc="-1" strike="noStrike">
                <a:solidFill>
                  <a:srgbClr val="000000"/>
                </a:solidFill>
                <a:latin typeface="Garamond"/>
              </a:rPr>
              <a:t>Comprende cualquier trato que amenace su seguridad de un niño o deje su vida con cicatrices físicas o emocionales. Constituye cualquier contacto físico o sexual inapropiado, o cualquier comunicación de un adulto a través del uso de su autoridad sobre el niño. El abuso también puede ocurrir entre dos niños, incluso si un niño actúa por ignorancia, inocencia o mied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buso físico: </a:t>
            </a:r>
            <a:r>
              <a:rPr b="0" lang="en-US" sz="2000" spc="-1" strike="noStrike">
                <a:solidFill>
                  <a:srgbClr val="000000"/>
                </a:solidFill>
                <a:latin typeface="Garamond"/>
              </a:rPr>
              <a:t>Comprende cualquier lesión causada a un niño que haya sido causada por causas diferentes a las accidentales, incluyendo cualquier lesión que aparente ser una variante con la explicación de la lesión.</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Abuso emocional:</a:t>
            </a:r>
            <a:r>
              <a:rPr b="0" lang="es-ES_tradnl" sz="2400" spc="-1" strike="noStrike">
                <a:solidFill>
                  <a:srgbClr val="000000"/>
                </a:solidFill>
                <a:latin typeface="Garamond"/>
              </a:rPr>
              <a:t> Comprende cualquier comunicación verbal que hiera al niño, algo degradante, menosprecio, sobrenombres despreciativos, terminología degradante, lenguaje violento u obsceno, etc.</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Abuso sexual:</a:t>
            </a:r>
            <a:r>
              <a:rPr b="0" lang="es-ES_tradnl" sz="2400" spc="-1" strike="noStrike">
                <a:solidFill>
                  <a:srgbClr val="000000"/>
                </a:solidFill>
                <a:latin typeface="Garamond"/>
              </a:rPr>
              <a:t> Violación de la privacidad sexual de un niño, bien sea por caricias, estimulación visual o comentarios verbales. Esto incluye caricias de cualquier parte íntima del cuerpo de un niño, orales, genitales, y/o penetración anal con un objeto extraño, oral, coito genital o anal, pedir al niño que se masturbe, mostrar o exhibir partes genitales a un niño, permitir al niño observar cualquier forma de actividad sexual, mostrar material pornográfico, etc.…</a:t>
            </a:r>
            <a:endParaRPr b="0" lang="en-US" sz="2400" spc="-1" strike="noStrike">
              <a:solidFill>
                <a:srgbClr val="000000"/>
              </a:solidFill>
              <a:latin typeface="Garamond"/>
            </a:endParaRPr>
          </a:p>
          <a:p>
            <a:pPr marL="74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Garamond"/>
              </a:rPr>
              <a:t>Modelo de planilla de Solicitud para Voluntarios</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Modelo de Formulario de  Verificación de Referenci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80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POSIT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0" lang="es-ES_tradnl" sz="1800" spc="-1" strike="noStrike">
                <a:solidFill>
                  <a:srgbClr val="000000"/>
                </a:solidFill>
                <a:latin typeface="Garamond"/>
              </a:rPr>
              <a:t>Coordinar el Ministerio Infantil en la iglesia local requiere proveer liderazgo y entrenamiento para maestros y líderes. El Coordinador de Ministerio Infantil puede contactar al director de la asociación para que le ayude con el entrenamiento de voluntarios regularmente. Cada coordinador es libre de usar cualquier programa de entrenamiento. El Departamento de Ministerio Infantil de la Asociación General, ofrece nueve cursos básicos para el programa de Certificación de liderazgo. Estos cursos pueden ser dictados como seminarios en convenciones de maestros, entrenamiento de líderes, o fines de semana de certificación. Puede tomar de varios meses a un año para completar estos nueve cursos. Al terminar cada uno, se entregará a cada participante un certificado del Departamento de Ministerio Infantil de la Asociación General.</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0" lang="es-ES_tradnl" sz="1800" spc="-1" strike="noStrike">
                <a:solidFill>
                  <a:srgbClr val="000000"/>
                </a:solidFill>
                <a:latin typeface="Garamond"/>
              </a:rPr>
              <a:t>Para aquellos líderes que deseen tener un entrenamiento avanzado, el Departamento de Ministerio Infantil de la División Norteamérica tiene un programa de Certificación para líderes que pueden usar.</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2.  Misión del Ministerio Infantil</a:t>
            </a:r>
            <a:endParaRPr b="1" lang="en-US" sz="4400" spc="-1" strike="noStrike">
              <a:solidFill>
                <a:srgbClr val="bd9d69"/>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ISIÓN DEL MINISTERIO INFANT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La misión del Departamento de Ministerio Infantil es fomentar en los niños una relación de amor y servicio con Jesús. Buscamos cumplir con esta misión desarrolland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orientados hacia la gracia</a:t>
            </a:r>
            <a:r>
              <a:rPr b="0" lang="en-US" sz="2000" spc="-1" strike="noStrike">
                <a:solidFill>
                  <a:srgbClr val="000000"/>
                </a:solidFill>
                <a:latin typeface="Garamond"/>
              </a:rPr>
              <a:t>: en los que todos los niños experimentarán el amor incondicional de Jesús, encontrarán seguridad de aceptación y perdón, y harán un compromiso con é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globales:</a:t>
            </a:r>
            <a:r>
              <a:rPr b="0" lang="en-US" sz="2000" spc="-1" strike="noStrike">
                <a:solidFill>
                  <a:srgbClr val="000000"/>
                </a:solidFill>
                <a:latin typeface="Garamond"/>
              </a:rPr>
              <a:t> en los que a los voluntarios que ministran, y los niños a quien es ministran, serán valorados e involucrados sin importar la raza, color, lenguaje, sexo, edad, habilidades, o circunstancias socioeconómica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de liderazgo:</a:t>
            </a:r>
            <a:r>
              <a:rPr b="0" lang="en-US" sz="2000" spc="-1" strike="noStrike">
                <a:solidFill>
                  <a:srgbClr val="000000"/>
                </a:solidFill>
                <a:latin typeface="Garamond"/>
              </a:rPr>
              <a:t> en los que los voluntarios se les motiva, entrena y equipa para ministrar efectivamente a los niños.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NIVEL BASICO</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Entendiendo los Eslabones de la Gracia</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Una caminata a través del programa de Eslabones de la Gracia, aprendiendo cómo las cuatro dinámicas: gracia, adoración, comunidad, y servicio son incorporadas en las lecciones de la Biblia, y entendiendo la nueva propuesta para enseñarlos.</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Aprendizaje activo</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Descubra el mejor y más interesante método de enseñar a los niños de cualquier edad, involucrándolos en actividades y no a través de lecturas.</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Desarrollo de la fe de los niños</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Descubra cómo nuestros niños desarrollan su fe y aprenden a encaminarse a través de las etapas de desarrollo de la fe hacia una relación de compromiso con Jesucristo.</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Disciplina positiva en la clase</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Aprenda algunas ideas para manejar la clase con gracia y firmeza, mientras usted facilita el aprendizaje activo en sus leccion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Criando niños que adoren a Di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Ayude a los padres a aprender las maneras más efectivas para criar hijos que adoren a Dios, haciendo de la adoración un estilo de vida.</a:t>
            </a:r>
            <a:endParaRPr b="0" lang="en-US" sz="2000" spc="-1" strike="noStrike">
              <a:solidFill>
                <a:srgbClr val="000000"/>
              </a:solidFill>
              <a:latin typeface="Garamond"/>
            </a:endParaRPr>
          </a:p>
          <a:p>
            <a:pPr lvl="1" marL="1168560" indent="-711360">
              <a:lnSpc>
                <a:spcPct val="8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tegiendo a los niños del abuso (Seleccionando voluntarios)</a:t>
            </a:r>
            <a:endParaRPr b="0" lang="en-US" sz="18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Proteja a los niños de su iglesia implementando procedimientos seguros para la selección de voluntarios. Aprenda cómo presentar una planilla de aplicación para voluntarios sin insultar a los líderes antiguos.</a:t>
            </a:r>
            <a:endParaRPr b="0" lang="en-US" sz="2000" spc="-1" strike="noStrike">
              <a:solidFill>
                <a:srgbClr val="000000"/>
              </a:solidFill>
              <a:latin typeface="Garamond"/>
            </a:endParaRPr>
          </a:p>
          <a:p>
            <a:pPr lvl="1" marL="1168560" indent="-711360">
              <a:lnSpc>
                <a:spcPct val="8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cedimientos de seguridad y emergencia para niños</a:t>
            </a:r>
            <a:endParaRPr b="0" lang="en-US" sz="18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Proveer seguridad a los niños en actividades patrocinadas por la iglesia, implementando procedimientos que los protejan de lesiones físicas, peligros, accidentes, y otros riesgos inesperad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71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endParaRPr b="0" lang="en-US" sz="2400" spc="-1" strike="noStrike">
              <a:solidFill>
                <a:srgbClr val="000000"/>
              </a:solidFill>
              <a:latin typeface="Garamond"/>
            </a:endParaRPr>
          </a:p>
          <a:p>
            <a:pPr lvl="1" marL="1028160" indent="-62568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Entendiendo el desarrollo de los niños: desde su nacimiento hasta la adolescencia</a:t>
            </a:r>
            <a:endParaRPr b="0" lang="en-US" sz="2000" spc="-1" strike="noStrike">
              <a:solidFill>
                <a:srgbClr val="000000"/>
              </a:solidFill>
              <a:latin typeface="Garamond"/>
            </a:endParaRPr>
          </a:p>
          <a:p>
            <a:pPr marL="715320" indent="-7153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Garamond"/>
              </a:rPr>
              <a:t>Descubra las características del desarrollo de los niños en edades de 0-14 años, cómo aprenden, y cuál es la mejor manera de enseñarlos. Entienda las necesidades, puntos fuertes, y los retos de los preadolescentes. Aprenda ideas prácticas para mantenerlos conectados al grupo y a Jesús.</a:t>
            </a:r>
            <a:endParaRPr b="0" lang="en-US" sz="2400" spc="-1" strike="noStrike">
              <a:solidFill>
                <a:srgbClr val="000000"/>
              </a:solidFill>
              <a:latin typeface="Garamond"/>
            </a:endParaRPr>
          </a:p>
          <a:p>
            <a:pPr lvl="1" marL="1028160" indent="-62568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Entendiendo cómo los niños aprenden</a:t>
            </a:r>
            <a:endParaRPr b="0" lang="en-US" sz="2000" spc="-1" strike="noStrike">
              <a:solidFill>
                <a:srgbClr val="000000"/>
              </a:solidFill>
              <a:latin typeface="Garamond"/>
            </a:endParaRPr>
          </a:p>
          <a:p>
            <a:pPr marL="715320" indent="-7153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Garamond"/>
              </a:rPr>
              <a:t>Entender cómo los niños aprenden a través de diferentes estilos de aprendizaje y  cómo tratar de satisfacer las necesidades de cada tipo de estudiante. Descubra los secretos de desarrollar un plan para un lección exitos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39440" indent="-7394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ué respuesta les damos a los niños cuando piden ser bautizados? ¿Cómo estamos en relación a su preparación para aceptar la gracia de Dios y caminar completamente en su luz? ¿Qué recursos usamos para preparar a nuestros primarios y menores para el bautismo? ¿Qué necesitan saber antes de bautizarse? ¿Cuál es la mejor edad para el bautismo? No deberíamos vacilar por mucho tiempo, pues la decisión del niño se esfumará. Si no respondemos a su decisión de seguir a Jesús y ser bautizados, podríamos perder la oportunidad de hacerlo más tarde.</a:t>
            </a:r>
            <a:endParaRPr b="0" lang="en-US" sz="2400" spc="-1" strike="noStrike">
              <a:solidFill>
                <a:srgbClr val="000000"/>
              </a:solidFill>
              <a:latin typeface="Garamond"/>
            </a:endParaRPr>
          </a:p>
          <a:p>
            <a:pPr marL="739440" indent="-7394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omar la decisión de seguir a Jesús es un paso serio hacia el crecimiento espiritual. El Manual de la iglesia en la página 29-ingles dic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796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796320" indent="-7963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a:t>
            </a:r>
            <a:r>
              <a:rPr b="1" i="1" lang="en-US" sz="2800" spc="-1" strike="noStrike">
                <a:solidFill>
                  <a:srgbClr val="000000"/>
                </a:solidFill>
                <a:latin typeface="Garamond"/>
              </a:rPr>
              <a:t>Ésta es una relación espiritual. Sólo pueden entrar en esta relación, aquellos que se han convertido. Únicamente así pueden ser conservadas la pureza y la calidad espiritual de la iglesia. A cada ministro le incumbe el deber de instruir a los que aceptan los principios de la verdad, para que puedan entrar en la iglesia sobre una base sana y espíritu.</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39440" indent="-7394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lena G. de White también reconoce que los niños hacen serias decisiones acerca del bautismo. Ella aconseja a la iglesia en el libro de </a:t>
            </a:r>
            <a:r>
              <a:rPr b="0" i="1" lang="es-ES_tradnl" sz="2400" spc="-1" strike="noStrike">
                <a:solidFill>
                  <a:srgbClr val="000000"/>
                </a:solidFill>
                <a:latin typeface="Garamond"/>
              </a:rPr>
              <a:t>Testimonios Vol. 1, </a:t>
            </a:r>
            <a:r>
              <a:rPr b="0" lang="es-ES_tradnl" sz="2400" spc="-1" strike="noStrike">
                <a:solidFill>
                  <a:srgbClr val="000000"/>
                </a:solidFill>
                <a:latin typeface="Garamond"/>
              </a:rPr>
              <a:t>p.400-inglés:</a:t>
            </a:r>
            <a:endParaRPr b="0" lang="en-US" sz="2400" spc="-1" strike="noStrike">
              <a:solidFill>
                <a:srgbClr val="000000"/>
              </a:solidFill>
              <a:latin typeface="Garamond"/>
            </a:endParaRPr>
          </a:p>
          <a:p>
            <a:pPr marL="739440" indent="-7394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Garamond"/>
              </a:rPr>
              <a:t>	</a:t>
            </a:r>
            <a:r>
              <a:rPr b="1" i="1" lang="es-ES_tradnl" sz="2400" spc="-1" strike="noStrike">
                <a:solidFill>
                  <a:srgbClr val="000000"/>
                </a:solidFill>
                <a:latin typeface="Garamond"/>
              </a:rPr>
              <a:t>“</a:t>
            </a:r>
            <a:r>
              <a:rPr b="1" i="1" lang="es-ES_tradnl" sz="2400" spc="-1" strike="noStrike">
                <a:solidFill>
                  <a:srgbClr val="000000"/>
                </a:solidFill>
                <a:latin typeface="Garamond"/>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1" lang="en-US" sz="2400" spc="-1" strike="noStrike">
                <a:solidFill>
                  <a:srgbClr val="000000"/>
                </a:solidFill>
                <a:latin typeface="Garamond"/>
              </a:rPr>
              <a:t>CONFIRMACION DE FE</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Cuando un niño toma la decisión de ser un seguidor de Jesús, el Coordinador de Ministerio Infantil debe animar a los líderes de la iglesia a hacer un Servicio de confirmación de fe para ese niño. Tal ceremonia, ayuda a confirmar la decisión del niño y le permite saber que la congregación se regocija con él o ella por haber hecho tal compromiso.</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STUDIO BAUTISMAL</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Seleccione y use una guía de estudio bautismal o cualquier otro material bíblico apropiado para niños, que esté aprobado por la Iglesia Adventista del Séptimo Dí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VOTOS BAUTISMALES</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Después que el niño ha completado los estudios bíblicos y está listo para convertirse en un miembro de la iglesia, su petición de bautismo debe ser llevada a la junta. El día del bautismo, cuando el niño sea examinado públicamente, pida al pastor que use el voto: “Simplified Bautismal Vows” por Steve Case. Este hace más fácil el entendimiento de los votos mientras el niño hace su compromis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BAUTISMO</a:t>
            </a: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Confirmación de fe </a:t>
            </a:r>
            <a:r>
              <a:rPr b="0" i="1" lang="es-ES_tradnl" sz="3200" spc="-1" strike="noStrike">
                <a:solidFill>
                  <a:srgbClr val="000000"/>
                </a:solidFill>
                <a:latin typeface="Garamond"/>
              </a:rPr>
              <a:t>  (</a:t>
            </a:r>
            <a:r>
              <a:rPr b="1" i="1" lang="es-ES_tradnl" sz="3200" spc="-1" strike="noStrike">
                <a:solidFill>
                  <a:srgbClr val="000000"/>
                </a:solidFill>
                <a:latin typeface="Garamond"/>
              </a:rPr>
              <a:t>Modelo de ceremonia)</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Votos Bautismales Sencillos</a:t>
            </a:r>
            <a:endParaRPr b="1" lang="en-US" sz="4400" spc="-1" strike="noStrike">
              <a:solidFill>
                <a:srgbClr val="bd9d69"/>
              </a:solidFill>
              <a:latin typeface="Garamond"/>
            </a:endParaRPr>
          </a:p>
        </p:txBody>
      </p:sp>
      <p:sp>
        <p:nvSpPr>
          <p:cNvPr id="2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u="sng">
                <a:solidFill>
                  <a:srgbClr val="000000"/>
                </a:solidFill>
                <a:uFillTx/>
                <a:latin typeface="Garamond"/>
              </a:rPr>
              <a:t>Creo en Dios el Padre; su hijo Jesucristo; y en el Espíritu Sant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Acepto la muerte de Jesús como pago por mis pecad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Acepto el nuevo corazón que Jesús me da, en lugar de mi corazón pecaminos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reo que Jesús está en el cielo como mi mejor amigo y que me da el Espíritu Santo para que yo pueda obedecerle.</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reo que Dios me dio la Biblia como mi libro guía más importante.</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omo Dios vive en mí, quiero obedecer los diez mandamientos, los cuales incluyen la observancia del sábado como el séptimo día de la seman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Quiero ayudar a tantos como pueda a estar listos para el pronto regreso de Jesú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2.  Misión del Ministerio Infantil</a:t>
            </a:r>
            <a:endParaRPr b="1" lang="en-US" sz="4400" spc="-1" strike="noStrike">
              <a:solidFill>
                <a:srgbClr val="bd9d69"/>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orientados al servicio:</a:t>
            </a:r>
            <a:r>
              <a:rPr b="0" lang="es-ES_tradnl" sz="1800" spc="-1" strike="noStrike">
                <a:solidFill>
                  <a:srgbClr val="000000"/>
                </a:solidFill>
                <a:latin typeface="Garamond"/>
              </a:rPr>
              <a:t> en los cuales los niños tienen la oportunidad de servir a las personas en su vecindario o ciudad, y establecer así un modelo de alcance a otros que muy bien puede continuar a lo largo de sus vidas.</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cooperativos:</a:t>
            </a:r>
            <a:r>
              <a:rPr b="0" lang="es-ES_tradnl" sz="1800" spc="-1" strike="noStrike">
                <a:solidFill>
                  <a:srgbClr val="000000"/>
                </a:solidFill>
                <a:latin typeface="Garamond"/>
              </a:rPr>
              <a:t> en los que el departamento trabaja con otros ministerios, como el Ministerio de Vida Familiar, Escuela Sabática, Mayordomía, y otros para promover nuestros objetivos compartidos.</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seguros:</a:t>
            </a:r>
            <a:r>
              <a:rPr b="0" lang="es-ES_tradnl" sz="1800" spc="-1" strike="noStrike">
                <a:solidFill>
                  <a:srgbClr val="000000"/>
                </a:solidFill>
                <a:latin typeface="Garamond"/>
              </a:rPr>
              <a:t> de tal forma que nuestras iglesias: a.) escojan voluntarios con un alto trasfondo espiritual y moral; y, b.) adopten medidas de seguridad para proteger a los niños de abusos físicos, emocionales y espirituales, y a la iglesia de responsabilidad.</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evangelísticos:</a:t>
            </a:r>
            <a:r>
              <a:rPr b="0" lang="es-ES_tradnl" sz="1800" spc="-1" strike="noStrike">
                <a:solidFill>
                  <a:srgbClr val="000000"/>
                </a:solidFill>
                <a:latin typeface="Garamond"/>
              </a:rPr>
              <a:t> en los que los niños que no están en el redil de la iglesia, serán introducidos al amor de Jesús a través de programas de alcance como: Escuelas Bíblicas de Vacaciones, Escuelas Sabáticas Filiales, clubes de Amigos de la Comunidad, y Tu Historia Preferida.</a:t>
            </a:r>
            <a:endParaRPr b="0" lang="en-US" sz="1800" spc="-1" strike="noStrike">
              <a:solidFill>
                <a:srgbClr val="000000"/>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Votos Bautismales Sencillos</a:t>
            </a:r>
            <a:endParaRPr b="1" lang="en-US" sz="4400" spc="-1" strike="noStrike">
              <a:solidFill>
                <a:srgbClr val="bd9d69"/>
              </a:solidFill>
              <a:latin typeface="Garamond"/>
            </a:endParaRPr>
          </a:p>
        </p:txBody>
      </p:sp>
      <p:sp>
        <p:nvSpPr>
          <p:cNvPr id="2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    </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Creo que Dios da habilidades especiales a su pueblo, y que el Espíritu de Profecía es dado a su pueblo escogid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ayudar a la iglesia de Dios con mi influencia, esfuerzo y diner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cuidar mi cuerpo, porque el Espíritu Santo vive allí ahor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Con el poder de Dios, quiero obedecer los principios básicos de la Iglesia Adventista del Séptimo Dí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ser bautizado para mostrarle a la gente que soy un cristian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ser un miembro de de la Iglesia Adventista del Séptimo Día, y creo que esta iglesia tiene un mensaje especial para dar al mund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mado de </a:t>
            </a:r>
            <a:r>
              <a:rPr b="0" i="1" lang="en-US" sz="1800" spc="-1" strike="noStrike">
                <a:solidFill>
                  <a:srgbClr val="000000"/>
                </a:solidFill>
                <a:latin typeface="Garamond"/>
              </a:rPr>
              <a:t>“It´s My Choice”,</a:t>
            </a:r>
            <a:r>
              <a:rPr b="0" lang="en-US" sz="1800" spc="-1" strike="noStrike">
                <a:solidFill>
                  <a:srgbClr val="000000"/>
                </a:solidFill>
                <a:latin typeface="Garamond"/>
              </a:rPr>
              <a:t> por Steve Case.Hagerstown, MD: Cas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s-ES_tradnl" sz="1800" spc="-1" strike="noStrike">
                <a:solidFill>
                  <a:srgbClr val="000000"/>
                </a:solidFill>
                <a:latin typeface="Garamond"/>
              </a:rPr>
              <a:t>Publicadora de la Review and Herald, 1996</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2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encial que planifiquemos programas eficientes para niños. Sin embargo, necesitamos recordar que los programas son herramientas para construir el cuerpo de Cristo. No debemos perder nunca de vista la misión del Ministerio Infantil: llevar a los niños a una relación de amor y servicio con Jesús. Cada programa que ofrecemos necesita guiar a los niños a lo largo del camino de la fe.</a:t>
            </a:r>
            <a:endParaRPr b="0" lang="en-US" sz="2400" spc="-1" strike="noStrike">
              <a:solidFill>
                <a:srgbClr val="000000"/>
              </a:solidFill>
              <a:latin typeface="Garamond"/>
            </a:endParaRPr>
          </a:p>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No planifique en exceso! Comience lenta y significativamente, en vez de comenzar con cosas mediocres. Es mejor reforzar programas existentes y añadir nuevos a medida que sean necesarios, manteniendo en cuenta la disponibilidad de fondos y de ayuda voluntari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7232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23240" indent="-7232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No necesariamente debemos tener todos los programas que otras iglesias tienen. Escoja sólo aquellos programas que pueda suplir, recordando que mientras mas programas el Ministerio Infantil de su iglesia provea, mas familias podrá atraer, y la congregación crecerá. En este capítulo examinamos algunos programas que alcanzan a los niños. Se proveen ideas y soporte para algunos ministerios específicos. Pero, escoja cuidadosament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los Niños dentro de la iglesia</a:t>
            </a:r>
            <a:endParaRPr b="1" lang="en-US" sz="4000" spc="-1" strike="noStrike">
              <a:solidFill>
                <a:srgbClr val="bd9d69"/>
              </a:solidFill>
              <a:latin typeface="Garamond"/>
            </a:endParaRPr>
          </a:p>
        </p:txBody>
      </p:sp>
      <p:sp>
        <p:nvSpPr>
          <p:cNvPr id="2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cuela Sabática de niños</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roveer educación religiosa para los niños que los ayude a construir una relación con Jesús. Este es el tiempo cuando los niños estudian las escrituras, adoran juntos, y están involucrados en un servicio para llegar a ser fieles seguidores de Jesucristo. </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 programa de una hora completa basado en la lección semanal. Los niños están envueltos en el aprendizaje activo y en una variedad de actividades que forman parte de su estilo de aprendizaje.</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es el único ministerio que cubre a todos los niños adventistas. Provee gran oportunidad para estudiar la Biblia con los niños y ayuda a relacionar estas verdades a la vida diaria. Los directores de Ministerio Infantil deben asegurase que hayan escuelas sabáticas para niños apropiadas a cada edad, en todas las iglesias que tengan presencia de niñ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Iglesia Infantil</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Proveer a los niños la oportunidad  de adorar en un ambiente apropiado a su edad, aprendiendo a su nivel de entendimiento, y participando en la adoración.</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cripción:</a:t>
            </a:r>
            <a:r>
              <a:rPr b="0" lang="es-ES_tradnl" sz="1800" spc="-1" strike="noStrike">
                <a:solidFill>
                  <a:srgbClr val="000000"/>
                </a:solidFill>
                <a:latin typeface="Garamond"/>
              </a:rPr>
              <a:t> Este es un servicio sólo para niños. Comienza a la misma hora de la iglesia. La Iglesia de niños es programada de acuerdo a las necesidades de la iglesia, puede variar de una vez, al mes a dos veces al mes. Es mas necesitada por niños en edades de 2-8 años, quines encuentran más difícil sentarse por largo tiempo. Los niños en edad de menores necesitan su propia iglesia de menores, o simplemente pueden asistir a los servicios regulares. La iglesia infantil incorpora los elementos de un servicio regular: alabanzas, oración, testimonios, estudio de la palabra, sermón de niños, y un drama que aplique la palabra de Dios a la vida diaria.</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Características únicas:</a:t>
            </a:r>
            <a:r>
              <a:rPr b="0" lang="es-ES_tradnl" sz="1800" spc="-1" strike="noStrike">
                <a:solidFill>
                  <a:srgbClr val="000000"/>
                </a:solidFill>
                <a:latin typeface="Garamond"/>
              </a:rPr>
              <a:t> Se les da la oportunidad a los niños de participar en el culto y entender los elementos de un  culto de adoración.</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Dar la oportunidad a los niños para que usen sus talentos musicales en las áreas de: cantos, interpretación de instrumentos, mímicas musicales, etc.</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Cultos de Oración</a:t>
            </a:r>
            <a:r>
              <a:rPr b="0" lang="es-ES_tradnl" sz="2400" spc="-1" strike="noStrike">
                <a:solidFill>
                  <a:srgbClr val="000000"/>
                </a:solidFill>
                <a:latin typeface="Garamond"/>
              </a:rPr>
              <a:t>   </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Propósito: </a:t>
            </a:r>
            <a:r>
              <a:rPr b="0" lang="es-ES_tradnl" sz="2400" spc="-1" strike="noStrike">
                <a:solidFill>
                  <a:srgbClr val="000000"/>
                </a:solidFill>
                <a:latin typeface="Garamond"/>
              </a:rPr>
              <a:t>Involucrar a los niños en una experiencia de oración significativa.</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Descripción:</a:t>
            </a:r>
            <a:r>
              <a:rPr b="0" lang="es-ES_tradnl" sz="2400" spc="-1" strike="noStrike">
                <a:solidFill>
                  <a:srgbClr val="000000"/>
                </a:solidFill>
                <a:latin typeface="Garamond"/>
              </a:rPr>
              <a:t> Comprende una corta charla basada en las escrituras para reforzar la creencia y el entendimiento de los niños acerca de la oración. Incluye: cantos, oraciones y una actividad o manualidad. Incluso, los niños pueden reunirse en una casa en vez de la iglesia.</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aracterísticas únicas:</a:t>
            </a:r>
            <a:r>
              <a:rPr b="0" lang="es-ES_tradnl" sz="2400" spc="-1" strike="noStrike">
                <a:solidFill>
                  <a:srgbClr val="000000"/>
                </a:solidFill>
                <a:latin typeface="Garamond"/>
              </a:rPr>
              <a:t> Ofrece a los niños una oportunidad especial para su crecimiento espiritual y compañerismo con otros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77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lase bautismal infantil</a:t>
            </a:r>
            <a:endParaRPr b="0" lang="en-US" sz="2400" spc="-1" strike="noStrike">
              <a:solidFill>
                <a:srgbClr val="000000"/>
              </a:solidFill>
              <a:latin typeface="Garamond"/>
            </a:endParaRPr>
          </a:p>
          <a:p>
            <a:pPr marL="77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Propósito:</a:t>
            </a:r>
            <a:r>
              <a:rPr b="0" lang="es-ES_tradnl" sz="2400" spc="-1" strike="noStrike">
                <a:solidFill>
                  <a:srgbClr val="000000"/>
                </a:solidFill>
                <a:latin typeface="Garamond"/>
              </a:rPr>
              <a:t> Preparar a niños que han expresado su deseo de bautizarse.</a:t>
            </a: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Descripción:</a:t>
            </a:r>
            <a:r>
              <a:rPr b="0" lang="es-ES_tradnl" sz="2400" spc="-1" strike="noStrike">
                <a:solidFill>
                  <a:srgbClr val="000000"/>
                </a:solidFill>
                <a:latin typeface="Garamond"/>
              </a:rPr>
              <a:t> Los niños estudian las creencias fundamentales de los cristianos y de la Iglesia Adventista del Séptimo Día, para entender su relación y responsabilidades con Dios y con la comunidad de creyentes.</a:t>
            </a: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aracterísticas únicas:</a:t>
            </a:r>
            <a:r>
              <a:rPr b="0" lang="es-ES_tradnl" sz="2400" spc="-1" strike="noStrike">
                <a:solidFill>
                  <a:srgbClr val="000000"/>
                </a:solidFill>
                <a:latin typeface="Garamond"/>
              </a:rPr>
              <a:t> Las lecciones bautismales son presentadas al nivel de entendimiento de los niños. Ellos pueden tomar el tiempo que sea necesario para prepararse para el bautismo.</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oro Infantil</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ara darle a los niños una experiencia de adoración a través de la música y para entrenarlos en el canto y en el entendimiento de la música como un ministerio misionero.</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 grupo musical para niños que se presentan principalmente en la iglesia y en la comunidad. Puede ser un proyecto a largo o corto plazo, en preparación para Semana Santa, Navidad, o Escuela Sabática de niños. Los niños de la comunidad pueden ser invitados a unirse al coro y sus padres pueden ser invitados a las presentaciones. Los devocionales de los coros, la música en sí misma, las presentaciones, y las relaciones que se formen, pueden ser todos unos grandes testigo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ministerio une a la escuela de la iglesia, la escuela pública, y a los niños de la comunidad. Provee una gran oportunidad para enseñarles a los niños buena música y para influenciar sus gustos musicale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Sábado Infantil: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roveer a los niños la oportunidad de usar sus dones y talentos, participando en el culto de la iglesi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Este es un programa anual que se realiza en tercer sábado de octubre, para promover la concientización de las necesidades de los niños y nuestra responsabilidad de suplirlas como iglesia. Los niños participan en el culto, tomando funciones como: oración, lectura Bíblica, servicio de canto, sermón, recolección de ofrendas y música especial.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programa especial provee una gran oportunidad para entrenar a los niños como líderes de la iglesia. Los niños se sienten incluidos como miembros de iglesia cuando son involucrados en est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a Di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etiro infanti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Proveer evangelismo espiritual y apoyo a los niños en un ambiente de campamento.</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os niños acampan juntos en el campo o en un centro de retiros por 2 o 3 días, y desarrollan actividades interactivas que ayudan en su desarrollo espiritual, físico, social y en su crecimiento mental. Se escoge un tema en específico y el programa se planifica en base a este. Estos programas pueden incluir: mayordomía, herencia adventista, experiencias de los tiempos bíblicos, y héroes de la Bibli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Ofrece programación entre semana, así como también los sábados. Se les da la oportunidad a los niños para que desarrollen su habilidades de liderazgo, espirituales, físicas, y sociales.</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Alcanzar a las madres jóvenes de la comunidad e introducirlas a Di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20:06:19Z</dcterms:created>
  <dc:creator>Dinorah Rivera</dc:creator>
  <dc:description/>
  <dc:language>en-US</dc:language>
  <cp:lastModifiedBy>Dinorah Rivera</cp:lastModifiedBy>
  <dcterms:modified xsi:type="dcterms:W3CDTF">2006-04-06T23:30:54Z</dcterms:modified>
  <cp:revision>7</cp:revision>
  <dc:subject/>
  <dc:title>EL COORDINADOR DE MINISTERIO INFANTIL</dc:title>
</cp:coreProperties>
</file>